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5.jpeg" ContentType="image/jpeg"/>
  <Override PartName="/ppt/media/image13.png" ContentType="image/png"/>
  <Override PartName="/ppt/media/image12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projctor.wav" ContentType="audio/x-wav"/>
  <Override PartName="/ppt/media/image9.png" ContentType="image/png"/>
  <Override PartName="/ppt/media/image3.jpeg" ContentType="image/jpeg"/>
  <Override PartName="/ppt/media/image4.png" ContentType="image/png"/>
  <Override PartName="/ppt/media/camera.wav" ContentType="audio/x-wav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52A9-C266-4565-A66F-4EF26902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8D80-48C1-443C-9D3D-9DEF8994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F67D-C88D-492C-957B-D814A7E4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CCC2-6CD8-41DE-BC7E-C45C14F81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5622-EDB3-45C1-9C65-B642E1C7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2BBC-C619-434B-BC46-07D3FF98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089B-999F-4BCC-A9F6-890D05C9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F35E-7E50-4369-B4D6-4FEFCEF9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8C17-449B-4190-98C4-2ED47214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F950-1C74-4950-91AF-4C6C9E42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843A-1666-435B-8BBD-47D63CEA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55BC-7366-4BD1-8D01-06AD8DC5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CD93-9506-4886-93C5-8CE57E0056CC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6C1A-168B-4D2C-BF49-28EA162076E6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4000" y="260280"/>
            <a:ext cx="691344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Times New Roman"/>
              </a:rPr>
              <a:t>自古进谏知多少？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684360" y="907920"/>
            <a:ext cx="755964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</a:rPr>
              <a:t>自古以来，很多谋臣良将，出于对国家尽责，对国君尽忠的赤诚之心，劝国君改正过失，冒死进谏，但大多因批龙鳞，逆圣听，而惨遭杀身之祸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84360" y="2924280"/>
            <a:ext cx="698472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</a:rPr>
              <a:t>屈原：向楚怀王进谏，提出治理国家的建议被奸臣嫉恨，遭放逐，最后投汨罗江而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755640" y="4365720"/>
            <a:ext cx="74167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</a:rPr>
              <a:t>比干：纣王不耐烦他提意见，剖腹挖心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755640" y="5084640"/>
            <a:ext cx="748980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</a:rPr>
              <a:t>伍子胥：建议吴王夫差杀掉勾践屡遭拒绝，引剑自刎，临终前要求把头颅挂在城门上，亲眼看勾践东山再起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00"/>
                </a:solidFill>
                <a:latin typeface="楷体"/>
                <a:ea typeface="楷体"/>
              </a:rPr>
              <a:t>正音   听范读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Object 6" descr=""/>
          <p:cNvPicPr/>
          <p:nvPr/>
        </p:nvPicPr>
        <p:blipFill>
          <a:blip r:embed="rId1"/>
          <a:stretch/>
        </p:blipFill>
        <p:spPr>
          <a:xfrm>
            <a:off x="1457280" y="2133720"/>
            <a:ext cx="6227640" cy="3314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8" descr=""/>
          <p:cNvPicPr/>
          <p:nvPr/>
        </p:nvPicPr>
        <p:blipFill>
          <a:blip r:embed="rId1"/>
          <a:srcRect l="0" t="18525" r="0" b="15235"/>
          <a:stretch/>
        </p:blipFill>
        <p:spPr>
          <a:xfrm>
            <a:off x="324000" y="1341360"/>
            <a:ext cx="8351640" cy="4680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邹忌问妻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95280" y="406080"/>
            <a:ext cx="86853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面对妻、妾、客的不同程度的赞美，邹忌从“不自信”到“暮寝而思之”，反映出他怎样的品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答：不盲目轻信，对别人的褒奖能理智判断、冷静思考，能正视自己。（围绕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有自知之明，善于思考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”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针对邹忌“我孰与城北徐公美？”的问题，妻、妾、客的回答有什么异同？试结合具体的语句分析说明不同在哪里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1515"/>
                </a:solidFill>
                <a:latin typeface="Arial"/>
              </a:rPr>
              <a:t>答：相同点：赞扬邹忌比徐公美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1515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71515"/>
                </a:solidFill>
                <a:latin typeface="Arial"/>
              </a:rPr>
              <a:t>不同点：妻子热情赞扬邹忌，反映了妻的偏爱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（如“君美甚，徐公何能及君也！”）；</a:t>
            </a:r>
            <a:r>
              <a:rPr b="1" lang="zh-CN" sz="2800" spc="-1" strike="noStrike">
                <a:solidFill>
                  <a:srgbClr val="f71515"/>
                </a:solidFill>
                <a:latin typeface="Arial"/>
              </a:rPr>
              <a:t>妾在家中的地位卑微，因为怕，回答比较敷衍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（如“徐公何能及君也”）；</a:t>
            </a:r>
            <a:r>
              <a:rPr b="1" lang="zh-CN" sz="2800" spc="-1" strike="noStrike">
                <a:solidFill>
                  <a:srgbClr val="f71515"/>
                </a:solidFill>
                <a:latin typeface="Arial"/>
              </a:rPr>
              <a:t>客因为他的主要目的是有事相求，所以回答用了一个陈述句，比妾的反问句，语气更轻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（如：“徐公不若君之美也”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1"/>
          <a:srcRect l="0" t="18495" r="0" b="15347"/>
          <a:stretch/>
        </p:blipFill>
        <p:spPr>
          <a:xfrm>
            <a:off x="395280" y="1341360"/>
            <a:ext cx="8209080" cy="4680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60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邹忌问妾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6CBE-031A-47AC-9826-818C122E800D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rcRect l="0" t="14933" r="0" b="13309"/>
          <a:stretch/>
        </p:blipFill>
        <p:spPr>
          <a:xfrm>
            <a:off x="395280" y="1773360"/>
            <a:ext cx="8064360" cy="4319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徐公来，孰视之，自以为不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58DB-EE80-4F43-96E2-A035BBC9827C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A9E0-D121-4BE9-A9D8-97224320A74B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1"/>
          <a:srcRect l="0" t="15347" r="0" b="13244"/>
          <a:stretch/>
        </p:blipFill>
        <p:spPr>
          <a:xfrm>
            <a:off x="0" y="1700280"/>
            <a:ext cx="9144000" cy="4392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20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窥镜而自视，又弗如远甚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FB65-A5D0-4620-96CA-4F0A5293D766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4560" y="259920"/>
            <a:ext cx="8891640" cy="61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邹忌认为“王之蔽甚矣”的原因是什么？请用自己的话简要概括。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71515"/>
                </a:solidFill>
                <a:latin typeface="楷体"/>
                <a:ea typeface="楷体"/>
              </a:rPr>
              <a:t>答：因为齐王身边的人阿谀奉承（私王、畏王、有求于王），不可能听到真实的情况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“今齐地方千里，百二十城，宫妇左右莫不私王，朝廷之臣莫不畏王，四境之内莫不有求于王。由此观之，王之蔽甚矣。”在表达上的有什么作用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71515"/>
                </a:solidFill>
                <a:latin typeface="楷体"/>
                <a:ea typeface="楷体"/>
              </a:rPr>
              <a:t>答：使用排比句，营造了一种步步逼近的语势，一环扣一环，给人以无可辩驳的感觉，有力地论证了中心论点。（从语势与论证关系上谈即可）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"/>
          <p:cNvPicPr/>
          <p:nvPr/>
        </p:nvPicPr>
        <p:blipFill>
          <a:blip r:embed="rId1"/>
          <a:srcRect l="0" t="15439" r="0" b="15143"/>
          <a:stretch/>
        </p:blipFill>
        <p:spPr>
          <a:xfrm>
            <a:off x="395280" y="1773360"/>
            <a:ext cx="8353440" cy="43196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入朝见威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AC2A-C560-490F-9221-D12339088AB8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"/>
          <p:cNvPicPr/>
          <p:nvPr/>
        </p:nvPicPr>
        <p:blipFill>
          <a:blip r:embed="rId1"/>
          <a:srcRect l="0" t="15012" r="0" b="15406"/>
          <a:stretch/>
        </p:blipFill>
        <p:spPr>
          <a:xfrm>
            <a:off x="250920" y="1628640"/>
            <a:ext cx="8208720" cy="453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7840"/>
            <a:ext cx="82296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门庭若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21A1-0537-4524-8AB5-38CB908CF9DD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540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“王曰‘善’。”请你结合文意品析“善”字的表达作用。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答：一是说明邹忌艺术的进谏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起到了良好的效果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；二是说明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齐威王善于纳谏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齐威王下令后，进谏者由“门庭若市”到“时时而渐进”，再到“无可进者”，这种变化说明了什么？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答：齐王纳谏后，朝政的弊端越来越少。（或齐王纳谏后，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需要改进的地方越来越少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  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304920" y="1295280"/>
            <a:ext cx="87627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以铜为镜，可以正衣冠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以史为镜，可以知兴替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以人为镜，可以明得失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4114800" y="533412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唐太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"/>
          <p:cNvPicPr/>
          <p:nvPr/>
        </p:nvPicPr>
        <p:blipFill>
          <a:blip r:embed="rId1"/>
          <a:srcRect l="0" t="16411" r="0" b="14308"/>
          <a:stretch/>
        </p:blipFill>
        <p:spPr>
          <a:xfrm>
            <a:off x="395280" y="1557360"/>
            <a:ext cx="8497800" cy="453564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战胜于朝廷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EDF8-5459-4718-8FEB-EF325E4D12D8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7152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“此所谓战胜于朝廷”中的“此”指代什么？“战胜于朝廷”的意思是什么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答：“此”指代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“燕、赵、韩、魏闻之，皆朝于齐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这种情况。“战胜于朝廷”是指内政修明，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不必用兵就能使别的国家畏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俗话说：“良药苦口利于病，忠言逆耳利于行”。本文中的邹忌的忠言并不逆耳，齐威王痛快地接受了你怎样看待这一问题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答：劝诫别人要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看对象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有人适合听顺耳之言，有人则非逆耳之言不起作用，但在多数情况下，我们一定要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讲究劝诫方式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既然是给别人提建议或意见，又希望被别人接受，最好选择一种让人愉快的方式，因而忠言未必逆耳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请简要分析文中两个人物的形象特点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答：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邹忌：（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）能保持清醒的头脑，发现问题并分析思索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）在政治上有除弊革新的责任感，敢于坚持真理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）有善于运用能启发人、使人容易接受的方式，摆事实，讲道理，说服对方。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、齐威王：心胸宽阔，气度宏大，知错能改的贤明君主。有革除弊端、改良政治的迫切愿望和巨大的决心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中国历史上不乏忠臣进谏的故事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但他们的命运却各不相同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4582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"/>
                <a:ea typeface="楷体"/>
              </a:rPr>
              <a:t>比干劝商纣王不要沉湎酒色而被挖心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"/>
                <a:ea typeface="楷体"/>
              </a:rPr>
              <a:t>屈原劝楚怀王连齐抗秦而被放逐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"/>
                <a:ea typeface="楷体"/>
              </a:rPr>
              <a:t>吴子胥劝夫差不要轻信勾践而被杀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"/>
                <a:ea typeface="楷体"/>
              </a:rPr>
              <a:t>白居易因直言极谏，贬江州司马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"/>
                <a:ea typeface="楷体"/>
              </a:rPr>
              <a:t>韩愈谏迎佛骨，“一封朝奏九重天，夕贬潮州路八千”</a:t>
            </a:r>
            <a:r>
              <a:rPr b="1" lang="en-US" sz="3200" spc="-1" strike="noStrike">
                <a:solidFill>
                  <a:srgbClr val="333399"/>
                </a:solidFill>
                <a:latin typeface="楷体"/>
                <a:ea typeface="楷体"/>
              </a:rPr>
              <a:t>…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但邹忌劝谏齐威王却收到了很好的成效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这是什么原因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DC35-F9EF-441C-8148-A7B69072E176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reeform 2"/>
          <p:cNvSpPr/>
          <p:nvPr/>
        </p:nvSpPr>
        <p:spPr>
          <a:xfrm>
            <a:off x="0" y="0"/>
            <a:ext cx="9144000" cy="301680"/>
          </a:xfrm>
          <a:custGeom>
            <a:avLst/>
            <a:gdLst/>
            <a:ahLst/>
            <a:rect l="l" t="t" r="r" b="b"/>
            <a:pathLst>
              <a:path w="5760" h="380">
                <a:moveTo>
                  <a:pt x="5411" y="136"/>
                </a:moveTo>
                <a:lnTo>
                  <a:pt x="5411" y="136"/>
                </a:lnTo>
                <a:lnTo>
                  <a:pt x="5410" y="160"/>
                </a:lnTo>
                <a:lnTo>
                  <a:pt x="5411" y="181"/>
                </a:lnTo>
                <a:lnTo>
                  <a:pt x="5416" y="201"/>
                </a:lnTo>
                <a:lnTo>
                  <a:pt x="5425" y="217"/>
                </a:lnTo>
                <a:lnTo>
                  <a:pt x="5438" y="231"/>
                </a:lnTo>
                <a:lnTo>
                  <a:pt x="5454" y="243"/>
                </a:lnTo>
                <a:lnTo>
                  <a:pt x="5473" y="251"/>
                </a:lnTo>
                <a:lnTo>
                  <a:pt x="5495" y="256"/>
                </a:lnTo>
                <a:lnTo>
                  <a:pt x="5495" y="256"/>
                </a:lnTo>
                <a:lnTo>
                  <a:pt x="5515" y="254"/>
                </a:lnTo>
                <a:lnTo>
                  <a:pt x="5533" y="246"/>
                </a:lnTo>
                <a:lnTo>
                  <a:pt x="5548" y="236"/>
                </a:lnTo>
                <a:lnTo>
                  <a:pt x="5561" y="222"/>
                </a:lnTo>
                <a:lnTo>
                  <a:pt x="5569" y="205"/>
                </a:lnTo>
                <a:lnTo>
                  <a:pt x="5572" y="186"/>
                </a:lnTo>
                <a:lnTo>
                  <a:pt x="5571" y="167"/>
                </a:lnTo>
                <a:lnTo>
                  <a:pt x="5563" y="147"/>
                </a:lnTo>
                <a:lnTo>
                  <a:pt x="5563" y="147"/>
                </a:lnTo>
                <a:lnTo>
                  <a:pt x="5553" y="137"/>
                </a:lnTo>
                <a:lnTo>
                  <a:pt x="5544" y="129"/>
                </a:lnTo>
                <a:lnTo>
                  <a:pt x="5534" y="125"/>
                </a:lnTo>
                <a:lnTo>
                  <a:pt x="5523" y="123"/>
                </a:lnTo>
                <a:lnTo>
                  <a:pt x="5514" y="123"/>
                </a:lnTo>
                <a:lnTo>
                  <a:pt x="5503" y="126"/>
                </a:lnTo>
                <a:lnTo>
                  <a:pt x="5493" y="133"/>
                </a:lnTo>
                <a:lnTo>
                  <a:pt x="5484" y="142"/>
                </a:lnTo>
                <a:lnTo>
                  <a:pt x="5484" y="142"/>
                </a:lnTo>
                <a:lnTo>
                  <a:pt x="5479" y="150"/>
                </a:lnTo>
                <a:lnTo>
                  <a:pt x="5477" y="160"/>
                </a:lnTo>
                <a:lnTo>
                  <a:pt x="5477" y="168"/>
                </a:lnTo>
                <a:lnTo>
                  <a:pt x="5477" y="175"/>
                </a:lnTo>
                <a:lnTo>
                  <a:pt x="5479" y="183"/>
                </a:lnTo>
                <a:lnTo>
                  <a:pt x="5482" y="191"/>
                </a:lnTo>
                <a:lnTo>
                  <a:pt x="5485" y="199"/>
                </a:lnTo>
                <a:lnTo>
                  <a:pt x="5487" y="207"/>
                </a:lnTo>
                <a:lnTo>
                  <a:pt x="5487" y="207"/>
                </a:lnTo>
                <a:lnTo>
                  <a:pt x="5493" y="213"/>
                </a:lnTo>
                <a:lnTo>
                  <a:pt x="5498" y="215"/>
                </a:lnTo>
                <a:lnTo>
                  <a:pt x="5501" y="213"/>
                </a:lnTo>
                <a:lnTo>
                  <a:pt x="5504" y="210"/>
                </a:lnTo>
                <a:lnTo>
                  <a:pt x="5506" y="207"/>
                </a:lnTo>
                <a:lnTo>
                  <a:pt x="5506" y="202"/>
                </a:lnTo>
                <a:lnTo>
                  <a:pt x="5501" y="199"/>
                </a:lnTo>
                <a:lnTo>
                  <a:pt x="5496" y="197"/>
                </a:lnTo>
                <a:lnTo>
                  <a:pt x="5496" y="197"/>
                </a:lnTo>
                <a:lnTo>
                  <a:pt x="5488" y="180"/>
                </a:lnTo>
                <a:lnTo>
                  <a:pt x="5487" y="163"/>
                </a:lnTo>
                <a:lnTo>
                  <a:pt x="5492" y="149"/>
                </a:lnTo>
                <a:lnTo>
                  <a:pt x="5500" y="139"/>
                </a:lnTo>
                <a:lnTo>
                  <a:pt x="5512" y="134"/>
                </a:lnTo>
                <a:lnTo>
                  <a:pt x="5526" y="134"/>
                </a:lnTo>
                <a:lnTo>
                  <a:pt x="5541" y="139"/>
                </a:lnTo>
                <a:lnTo>
                  <a:pt x="5555" y="154"/>
                </a:lnTo>
                <a:lnTo>
                  <a:pt x="5555" y="154"/>
                </a:lnTo>
                <a:lnTo>
                  <a:pt x="5560" y="165"/>
                </a:lnTo>
                <a:lnTo>
                  <a:pt x="5561" y="176"/>
                </a:lnTo>
                <a:lnTo>
                  <a:pt x="5563" y="188"/>
                </a:lnTo>
                <a:lnTo>
                  <a:pt x="5561" y="197"/>
                </a:lnTo>
                <a:lnTo>
                  <a:pt x="5558" y="207"/>
                </a:lnTo>
                <a:lnTo>
                  <a:pt x="5553" y="217"/>
                </a:lnTo>
                <a:lnTo>
                  <a:pt x="5547" y="223"/>
                </a:lnTo>
                <a:lnTo>
                  <a:pt x="5539" y="230"/>
                </a:lnTo>
                <a:lnTo>
                  <a:pt x="5531" y="236"/>
                </a:lnTo>
                <a:lnTo>
                  <a:pt x="5522" y="239"/>
                </a:lnTo>
                <a:lnTo>
                  <a:pt x="5512" y="243"/>
                </a:lnTo>
                <a:lnTo>
                  <a:pt x="5501" y="244"/>
                </a:lnTo>
                <a:lnTo>
                  <a:pt x="5490" y="244"/>
                </a:lnTo>
                <a:lnTo>
                  <a:pt x="5479" y="243"/>
                </a:lnTo>
                <a:lnTo>
                  <a:pt x="5468" y="239"/>
                </a:lnTo>
                <a:lnTo>
                  <a:pt x="5459" y="235"/>
                </a:lnTo>
                <a:lnTo>
                  <a:pt x="5459" y="235"/>
                </a:lnTo>
                <a:lnTo>
                  <a:pt x="5444" y="225"/>
                </a:lnTo>
                <a:lnTo>
                  <a:pt x="5435" y="215"/>
                </a:lnTo>
                <a:lnTo>
                  <a:pt x="5427" y="202"/>
                </a:lnTo>
                <a:lnTo>
                  <a:pt x="5422" y="188"/>
                </a:lnTo>
                <a:lnTo>
                  <a:pt x="5419" y="173"/>
                </a:lnTo>
                <a:lnTo>
                  <a:pt x="5419" y="157"/>
                </a:lnTo>
                <a:lnTo>
                  <a:pt x="5421" y="142"/>
                </a:lnTo>
                <a:lnTo>
                  <a:pt x="5424" y="126"/>
                </a:lnTo>
                <a:lnTo>
                  <a:pt x="5425" y="123"/>
                </a:lnTo>
                <a:lnTo>
                  <a:pt x="5429" y="118"/>
                </a:lnTo>
                <a:lnTo>
                  <a:pt x="5427" y="118"/>
                </a:lnTo>
                <a:lnTo>
                  <a:pt x="5427" y="118"/>
                </a:lnTo>
                <a:lnTo>
                  <a:pt x="5432" y="113"/>
                </a:lnTo>
                <a:lnTo>
                  <a:pt x="5438" y="105"/>
                </a:lnTo>
                <a:lnTo>
                  <a:pt x="5447" y="99"/>
                </a:lnTo>
                <a:lnTo>
                  <a:pt x="5460" y="91"/>
                </a:lnTo>
                <a:lnTo>
                  <a:pt x="5476" y="84"/>
                </a:lnTo>
                <a:lnTo>
                  <a:pt x="5495" y="78"/>
                </a:lnTo>
                <a:lnTo>
                  <a:pt x="5518" y="74"/>
                </a:lnTo>
                <a:lnTo>
                  <a:pt x="5545" y="74"/>
                </a:lnTo>
                <a:lnTo>
                  <a:pt x="5545" y="74"/>
                </a:lnTo>
                <a:lnTo>
                  <a:pt x="5564" y="76"/>
                </a:lnTo>
                <a:lnTo>
                  <a:pt x="5582" y="82"/>
                </a:lnTo>
                <a:lnTo>
                  <a:pt x="5599" y="91"/>
                </a:lnTo>
                <a:lnTo>
                  <a:pt x="5616" y="102"/>
                </a:lnTo>
                <a:lnTo>
                  <a:pt x="5634" y="115"/>
                </a:lnTo>
                <a:lnTo>
                  <a:pt x="5650" y="129"/>
                </a:lnTo>
                <a:lnTo>
                  <a:pt x="5665" y="146"/>
                </a:lnTo>
                <a:lnTo>
                  <a:pt x="5679" y="162"/>
                </a:lnTo>
                <a:lnTo>
                  <a:pt x="5692" y="180"/>
                </a:lnTo>
                <a:lnTo>
                  <a:pt x="5705" y="196"/>
                </a:lnTo>
                <a:lnTo>
                  <a:pt x="5716" y="212"/>
                </a:lnTo>
                <a:lnTo>
                  <a:pt x="5725" y="228"/>
                </a:lnTo>
                <a:lnTo>
                  <a:pt x="5733" y="241"/>
                </a:lnTo>
                <a:lnTo>
                  <a:pt x="5739" y="252"/>
                </a:lnTo>
                <a:lnTo>
                  <a:pt x="5744" y="262"/>
                </a:lnTo>
                <a:lnTo>
                  <a:pt x="5746" y="270"/>
                </a:lnTo>
                <a:lnTo>
                  <a:pt x="5746" y="270"/>
                </a:lnTo>
                <a:lnTo>
                  <a:pt x="5749" y="275"/>
                </a:lnTo>
                <a:lnTo>
                  <a:pt x="5752" y="283"/>
                </a:lnTo>
                <a:lnTo>
                  <a:pt x="5755" y="291"/>
                </a:lnTo>
                <a:lnTo>
                  <a:pt x="5758" y="299"/>
                </a:lnTo>
                <a:lnTo>
                  <a:pt x="5760" y="307"/>
                </a:lnTo>
                <a:lnTo>
                  <a:pt x="5760" y="317"/>
                </a:lnTo>
                <a:lnTo>
                  <a:pt x="5758" y="327"/>
                </a:lnTo>
                <a:lnTo>
                  <a:pt x="5754" y="335"/>
                </a:lnTo>
                <a:lnTo>
                  <a:pt x="5746" y="345"/>
                </a:lnTo>
                <a:lnTo>
                  <a:pt x="5736" y="353"/>
                </a:lnTo>
                <a:lnTo>
                  <a:pt x="5721" y="361"/>
                </a:lnTo>
                <a:lnTo>
                  <a:pt x="5700" y="367"/>
                </a:lnTo>
                <a:lnTo>
                  <a:pt x="5675" y="372"/>
                </a:lnTo>
                <a:lnTo>
                  <a:pt x="5643" y="377"/>
                </a:lnTo>
                <a:lnTo>
                  <a:pt x="5607" y="378"/>
                </a:lnTo>
                <a:lnTo>
                  <a:pt x="5561" y="380"/>
                </a:lnTo>
                <a:lnTo>
                  <a:pt x="5561" y="380"/>
                </a:lnTo>
                <a:lnTo>
                  <a:pt x="5533" y="380"/>
                </a:lnTo>
                <a:lnTo>
                  <a:pt x="5493" y="380"/>
                </a:lnTo>
                <a:lnTo>
                  <a:pt x="5444" y="380"/>
                </a:lnTo>
                <a:lnTo>
                  <a:pt x="5386" y="380"/>
                </a:lnTo>
                <a:lnTo>
                  <a:pt x="5318" y="380"/>
                </a:lnTo>
                <a:lnTo>
                  <a:pt x="5242" y="380"/>
                </a:lnTo>
                <a:lnTo>
                  <a:pt x="5160" y="380"/>
                </a:lnTo>
                <a:lnTo>
                  <a:pt x="5072" y="380"/>
                </a:lnTo>
                <a:lnTo>
                  <a:pt x="4977" y="380"/>
                </a:lnTo>
                <a:lnTo>
                  <a:pt x="4878" y="380"/>
                </a:lnTo>
                <a:lnTo>
                  <a:pt x="4773" y="380"/>
                </a:lnTo>
                <a:lnTo>
                  <a:pt x="4666" y="380"/>
                </a:lnTo>
                <a:lnTo>
                  <a:pt x="4557" y="380"/>
                </a:lnTo>
                <a:lnTo>
                  <a:pt x="4445" y="380"/>
                </a:lnTo>
                <a:lnTo>
                  <a:pt x="4331" y="380"/>
                </a:lnTo>
                <a:lnTo>
                  <a:pt x="4218" y="380"/>
                </a:lnTo>
                <a:lnTo>
                  <a:pt x="4103" y="380"/>
                </a:lnTo>
                <a:lnTo>
                  <a:pt x="3989" y="380"/>
                </a:lnTo>
                <a:lnTo>
                  <a:pt x="3878" y="380"/>
                </a:lnTo>
                <a:lnTo>
                  <a:pt x="3768" y="380"/>
                </a:lnTo>
                <a:lnTo>
                  <a:pt x="3661" y="380"/>
                </a:lnTo>
                <a:lnTo>
                  <a:pt x="3558" y="380"/>
                </a:lnTo>
                <a:lnTo>
                  <a:pt x="3460" y="380"/>
                </a:lnTo>
                <a:lnTo>
                  <a:pt x="3367" y="380"/>
                </a:lnTo>
                <a:lnTo>
                  <a:pt x="3279" y="380"/>
                </a:lnTo>
                <a:lnTo>
                  <a:pt x="3198" y="380"/>
                </a:lnTo>
                <a:lnTo>
                  <a:pt x="3124" y="380"/>
                </a:lnTo>
                <a:lnTo>
                  <a:pt x="3058" y="380"/>
                </a:lnTo>
                <a:lnTo>
                  <a:pt x="3001" y="380"/>
                </a:lnTo>
                <a:lnTo>
                  <a:pt x="2953" y="380"/>
                </a:lnTo>
                <a:lnTo>
                  <a:pt x="2916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2" y="380"/>
                </a:lnTo>
                <a:lnTo>
                  <a:pt x="2862" y="380"/>
                </a:lnTo>
                <a:lnTo>
                  <a:pt x="2829" y="380"/>
                </a:lnTo>
                <a:lnTo>
                  <a:pt x="2784" y="380"/>
                </a:lnTo>
                <a:lnTo>
                  <a:pt x="2728" y="380"/>
                </a:lnTo>
                <a:lnTo>
                  <a:pt x="2663" y="380"/>
                </a:lnTo>
                <a:lnTo>
                  <a:pt x="2587" y="380"/>
                </a:lnTo>
                <a:lnTo>
                  <a:pt x="2505" y="380"/>
                </a:lnTo>
                <a:lnTo>
                  <a:pt x="2414" y="380"/>
                </a:lnTo>
                <a:lnTo>
                  <a:pt x="2317" y="380"/>
                </a:lnTo>
                <a:lnTo>
                  <a:pt x="2215" y="380"/>
                </a:lnTo>
                <a:lnTo>
                  <a:pt x="2106" y="380"/>
                </a:lnTo>
                <a:lnTo>
                  <a:pt x="1994" y="380"/>
                </a:lnTo>
                <a:lnTo>
                  <a:pt x="1878" y="380"/>
                </a:lnTo>
                <a:lnTo>
                  <a:pt x="1760" y="380"/>
                </a:lnTo>
                <a:lnTo>
                  <a:pt x="1640" y="380"/>
                </a:lnTo>
                <a:lnTo>
                  <a:pt x="1520" y="380"/>
                </a:lnTo>
                <a:lnTo>
                  <a:pt x="1400" y="380"/>
                </a:lnTo>
                <a:lnTo>
                  <a:pt x="1280" y="380"/>
                </a:lnTo>
                <a:lnTo>
                  <a:pt x="1163" y="380"/>
                </a:lnTo>
                <a:lnTo>
                  <a:pt x="1048" y="380"/>
                </a:lnTo>
                <a:lnTo>
                  <a:pt x="938" y="380"/>
                </a:lnTo>
                <a:lnTo>
                  <a:pt x="830" y="380"/>
                </a:lnTo>
                <a:lnTo>
                  <a:pt x="728" y="380"/>
                </a:lnTo>
                <a:lnTo>
                  <a:pt x="631" y="380"/>
                </a:lnTo>
                <a:lnTo>
                  <a:pt x="543" y="380"/>
                </a:lnTo>
                <a:lnTo>
                  <a:pt x="461" y="380"/>
                </a:lnTo>
                <a:lnTo>
                  <a:pt x="388" y="380"/>
                </a:lnTo>
                <a:lnTo>
                  <a:pt x="324" y="380"/>
                </a:lnTo>
                <a:lnTo>
                  <a:pt x="270" y="380"/>
                </a:lnTo>
                <a:lnTo>
                  <a:pt x="229" y="380"/>
                </a:lnTo>
                <a:lnTo>
                  <a:pt x="197" y="380"/>
                </a:lnTo>
                <a:lnTo>
                  <a:pt x="197" y="380"/>
                </a:lnTo>
                <a:lnTo>
                  <a:pt x="153" y="378"/>
                </a:lnTo>
                <a:lnTo>
                  <a:pt x="115" y="377"/>
                </a:lnTo>
                <a:lnTo>
                  <a:pt x="84" y="372"/>
                </a:lnTo>
                <a:lnTo>
                  <a:pt x="58" y="367"/>
                </a:lnTo>
                <a:lnTo>
                  <a:pt x="38" y="361"/>
                </a:lnTo>
                <a:lnTo>
                  <a:pt x="22" y="353"/>
                </a:lnTo>
                <a:lnTo>
                  <a:pt x="11" y="345"/>
                </a:lnTo>
                <a:lnTo>
                  <a:pt x="5" y="335"/>
                </a:lnTo>
                <a:lnTo>
                  <a:pt x="2" y="327"/>
                </a:lnTo>
                <a:lnTo>
                  <a:pt x="0" y="317"/>
                </a:lnTo>
                <a:lnTo>
                  <a:pt x="0" y="307"/>
                </a:lnTo>
                <a:lnTo>
                  <a:pt x="2" y="299"/>
                </a:lnTo>
                <a:lnTo>
                  <a:pt x="3" y="291"/>
                </a:lnTo>
                <a:lnTo>
                  <a:pt x="6" y="283"/>
                </a:lnTo>
                <a:lnTo>
                  <a:pt x="9" y="275"/>
                </a:lnTo>
                <a:lnTo>
                  <a:pt x="11" y="270"/>
                </a:lnTo>
                <a:lnTo>
                  <a:pt x="11" y="270"/>
                </a:lnTo>
                <a:lnTo>
                  <a:pt x="14" y="262"/>
                </a:lnTo>
                <a:lnTo>
                  <a:pt x="19" y="252"/>
                </a:lnTo>
                <a:lnTo>
                  <a:pt x="25" y="241"/>
                </a:lnTo>
                <a:lnTo>
                  <a:pt x="33" y="228"/>
                </a:lnTo>
                <a:lnTo>
                  <a:pt x="43" y="212"/>
                </a:lnTo>
                <a:lnTo>
                  <a:pt x="54" y="196"/>
                </a:lnTo>
                <a:lnTo>
                  <a:pt x="66" y="180"/>
                </a:lnTo>
                <a:lnTo>
                  <a:pt x="79" y="162"/>
                </a:lnTo>
                <a:lnTo>
                  <a:pt x="93" y="146"/>
                </a:lnTo>
                <a:lnTo>
                  <a:pt x="109" y="131"/>
                </a:lnTo>
                <a:lnTo>
                  <a:pt x="125" y="115"/>
                </a:lnTo>
                <a:lnTo>
                  <a:pt x="142" y="102"/>
                </a:lnTo>
                <a:lnTo>
                  <a:pt x="159" y="92"/>
                </a:lnTo>
                <a:lnTo>
                  <a:pt x="177" y="82"/>
                </a:lnTo>
                <a:lnTo>
                  <a:pt x="196" y="78"/>
                </a:lnTo>
                <a:lnTo>
                  <a:pt x="213" y="74"/>
                </a:lnTo>
                <a:lnTo>
                  <a:pt x="213" y="74"/>
                </a:lnTo>
                <a:lnTo>
                  <a:pt x="242" y="76"/>
                </a:lnTo>
                <a:lnTo>
                  <a:pt x="264" y="79"/>
                </a:lnTo>
                <a:lnTo>
                  <a:pt x="283" y="84"/>
                </a:lnTo>
                <a:lnTo>
                  <a:pt x="298" y="91"/>
                </a:lnTo>
                <a:lnTo>
                  <a:pt x="311" y="99"/>
                </a:lnTo>
                <a:lnTo>
                  <a:pt x="320" y="107"/>
                </a:lnTo>
                <a:lnTo>
                  <a:pt x="327" y="113"/>
                </a:lnTo>
                <a:lnTo>
                  <a:pt x="331" y="118"/>
                </a:lnTo>
                <a:lnTo>
                  <a:pt x="330" y="120"/>
                </a:lnTo>
                <a:lnTo>
                  <a:pt x="333" y="125"/>
                </a:lnTo>
                <a:lnTo>
                  <a:pt x="335" y="128"/>
                </a:lnTo>
                <a:lnTo>
                  <a:pt x="335" y="128"/>
                </a:lnTo>
                <a:lnTo>
                  <a:pt x="338" y="142"/>
                </a:lnTo>
                <a:lnTo>
                  <a:pt x="339" y="159"/>
                </a:lnTo>
                <a:lnTo>
                  <a:pt x="339" y="173"/>
                </a:lnTo>
                <a:lnTo>
                  <a:pt x="336" y="189"/>
                </a:lnTo>
                <a:lnTo>
                  <a:pt x="331" y="202"/>
                </a:lnTo>
                <a:lnTo>
                  <a:pt x="325" y="215"/>
                </a:lnTo>
                <a:lnTo>
                  <a:pt x="314" y="226"/>
                </a:lnTo>
                <a:lnTo>
                  <a:pt x="301" y="235"/>
                </a:lnTo>
                <a:lnTo>
                  <a:pt x="301" y="235"/>
                </a:lnTo>
                <a:lnTo>
                  <a:pt x="290" y="239"/>
                </a:lnTo>
                <a:lnTo>
                  <a:pt x="279" y="243"/>
                </a:lnTo>
                <a:lnTo>
                  <a:pt x="268" y="244"/>
                </a:lnTo>
                <a:lnTo>
                  <a:pt x="259" y="244"/>
                </a:lnTo>
                <a:lnTo>
                  <a:pt x="248" y="244"/>
                </a:lnTo>
                <a:lnTo>
                  <a:pt x="238" y="241"/>
                </a:lnTo>
                <a:lnTo>
                  <a:pt x="229" y="236"/>
                </a:lnTo>
                <a:lnTo>
                  <a:pt x="219" y="231"/>
                </a:lnTo>
                <a:lnTo>
                  <a:pt x="213" y="225"/>
                </a:lnTo>
                <a:lnTo>
                  <a:pt x="207" y="217"/>
                </a:lnTo>
                <a:lnTo>
                  <a:pt x="202" y="207"/>
                </a:lnTo>
                <a:lnTo>
                  <a:pt x="199" y="199"/>
                </a:lnTo>
                <a:lnTo>
                  <a:pt x="197" y="188"/>
                </a:lnTo>
                <a:lnTo>
                  <a:pt x="197" y="176"/>
                </a:lnTo>
                <a:lnTo>
                  <a:pt x="200" y="165"/>
                </a:lnTo>
                <a:lnTo>
                  <a:pt x="205" y="154"/>
                </a:lnTo>
                <a:lnTo>
                  <a:pt x="205" y="154"/>
                </a:lnTo>
                <a:lnTo>
                  <a:pt x="219" y="141"/>
                </a:lnTo>
                <a:lnTo>
                  <a:pt x="234" y="134"/>
                </a:lnTo>
                <a:lnTo>
                  <a:pt x="248" y="134"/>
                </a:lnTo>
                <a:lnTo>
                  <a:pt x="259" y="141"/>
                </a:lnTo>
                <a:lnTo>
                  <a:pt x="268" y="150"/>
                </a:lnTo>
                <a:lnTo>
                  <a:pt x="272" y="163"/>
                </a:lnTo>
                <a:lnTo>
                  <a:pt x="270" y="180"/>
                </a:lnTo>
                <a:lnTo>
                  <a:pt x="262" y="197"/>
                </a:lnTo>
                <a:lnTo>
                  <a:pt x="262" y="197"/>
                </a:lnTo>
                <a:lnTo>
                  <a:pt x="257" y="199"/>
                </a:lnTo>
                <a:lnTo>
                  <a:pt x="254" y="202"/>
                </a:lnTo>
                <a:lnTo>
                  <a:pt x="253" y="207"/>
                </a:lnTo>
                <a:lnTo>
                  <a:pt x="254" y="210"/>
                </a:lnTo>
                <a:lnTo>
                  <a:pt x="257" y="213"/>
                </a:lnTo>
                <a:lnTo>
                  <a:pt x="260" y="215"/>
                </a:lnTo>
                <a:lnTo>
                  <a:pt x="265" y="213"/>
                </a:lnTo>
                <a:lnTo>
                  <a:pt x="272" y="207"/>
                </a:lnTo>
                <a:lnTo>
                  <a:pt x="272" y="207"/>
                </a:lnTo>
                <a:lnTo>
                  <a:pt x="273" y="199"/>
                </a:lnTo>
                <a:lnTo>
                  <a:pt x="276" y="191"/>
                </a:lnTo>
                <a:lnTo>
                  <a:pt x="279" y="183"/>
                </a:lnTo>
                <a:lnTo>
                  <a:pt x="281" y="175"/>
                </a:lnTo>
                <a:lnTo>
                  <a:pt x="281" y="168"/>
                </a:lnTo>
                <a:lnTo>
                  <a:pt x="281" y="160"/>
                </a:lnTo>
                <a:lnTo>
                  <a:pt x="279" y="152"/>
                </a:lnTo>
                <a:lnTo>
                  <a:pt x="275" y="142"/>
                </a:lnTo>
                <a:lnTo>
                  <a:pt x="275" y="142"/>
                </a:lnTo>
                <a:lnTo>
                  <a:pt x="265" y="133"/>
                </a:lnTo>
                <a:lnTo>
                  <a:pt x="256" y="128"/>
                </a:lnTo>
                <a:lnTo>
                  <a:pt x="246" y="125"/>
                </a:lnTo>
                <a:lnTo>
                  <a:pt x="235" y="125"/>
                </a:lnTo>
                <a:lnTo>
                  <a:pt x="226" y="126"/>
                </a:lnTo>
                <a:lnTo>
                  <a:pt x="216" y="131"/>
                </a:lnTo>
                <a:lnTo>
                  <a:pt x="207" y="137"/>
                </a:lnTo>
                <a:lnTo>
                  <a:pt x="197" y="147"/>
                </a:lnTo>
                <a:lnTo>
                  <a:pt x="197" y="147"/>
                </a:lnTo>
                <a:lnTo>
                  <a:pt x="189" y="168"/>
                </a:lnTo>
                <a:lnTo>
                  <a:pt x="188" y="188"/>
                </a:lnTo>
                <a:lnTo>
                  <a:pt x="191" y="205"/>
                </a:lnTo>
                <a:lnTo>
                  <a:pt x="199" y="222"/>
                </a:lnTo>
                <a:lnTo>
                  <a:pt x="210" y="236"/>
                </a:lnTo>
                <a:lnTo>
                  <a:pt x="226" y="246"/>
                </a:lnTo>
                <a:lnTo>
                  <a:pt x="245" y="254"/>
                </a:lnTo>
                <a:lnTo>
                  <a:pt x="265" y="256"/>
                </a:lnTo>
                <a:lnTo>
                  <a:pt x="265" y="256"/>
                </a:lnTo>
                <a:lnTo>
                  <a:pt x="287" y="251"/>
                </a:lnTo>
                <a:lnTo>
                  <a:pt x="306" y="243"/>
                </a:lnTo>
                <a:lnTo>
                  <a:pt x="322" y="231"/>
                </a:lnTo>
                <a:lnTo>
                  <a:pt x="335" y="218"/>
                </a:lnTo>
                <a:lnTo>
                  <a:pt x="343" y="201"/>
                </a:lnTo>
                <a:lnTo>
                  <a:pt x="349" y="183"/>
                </a:lnTo>
                <a:lnTo>
                  <a:pt x="350" y="160"/>
                </a:lnTo>
                <a:lnTo>
                  <a:pt x="349" y="136"/>
                </a:lnTo>
                <a:lnTo>
                  <a:pt x="349" y="136"/>
                </a:lnTo>
                <a:lnTo>
                  <a:pt x="347" y="131"/>
                </a:lnTo>
                <a:lnTo>
                  <a:pt x="346" y="126"/>
                </a:lnTo>
                <a:lnTo>
                  <a:pt x="344" y="121"/>
                </a:lnTo>
                <a:lnTo>
                  <a:pt x="343" y="116"/>
                </a:lnTo>
                <a:lnTo>
                  <a:pt x="343" y="116"/>
                </a:lnTo>
                <a:lnTo>
                  <a:pt x="349" y="112"/>
                </a:lnTo>
                <a:lnTo>
                  <a:pt x="355" y="107"/>
                </a:lnTo>
                <a:lnTo>
                  <a:pt x="363" y="102"/>
                </a:lnTo>
                <a:lnTo>
                  <a:pt x="371" y="97"/>
                </a:lnTo>
                <a:lnTo>
                  <a:pt x="379" y="92"/>
                </a:lnTo>
                <a:lnTo>
                  <a:pt x="387" y="89"/>
                </a:lnTo>
                <a:lnTo>
                  <a:pt x="396" y="86"/>
                </a:lnTo>
                <a:lnTo>
                  <a:pt x="404" y="82"/>
                </a:lnTo>
                <a:lnTo>
                  <a:pt x="414" y="79"/>
                </a:lnTo>
                <a:lnTo>
                  <a:pt x="423" y="78"/>
                </a:lnTo>
                <a:lnTo>
                  <a:pt x="433" y="76"/>
                </a:lnTo>
                <a:lnTo>
                  <a:pt x="442" y="74"/>
                </a:lnTo>
                <a:lnTo>
                  <a:pt x="451" y="73"/>
                </a:lnTo>
                <a:lnTo>
                  <a:pt x="463" y="71"/>
                </a:lnTo>
                <a:lnTo>
                  <a:pt x="472" y="71"/>
                </a:lnTo>
                <a:lnTo>
                  <a:pt x="481" y="71"/>
                </a:lnTo>
                <a:lnTo>
                  <a:pt x="481" y="71"/>
                </a:lnTo>
                <a:lnTo>
                  <a:pt x="497" y="73"/>
                </a:lnTo>
                <a:lnTo>
                  <a:pt x="511" y="74"/>
                </a:lnTo>
                <a:lnTo>
                  <a:pt x="526" y="76"/>
                </a:lnTo>
                <a:lnTo>
                  <a:pt x="541" y="79"/>
                </a:lnTo>
                <a:lnTo>
                  <a:pt x="554" y="84"/>
                </a:lnTo>
                <a:lnTo>
                  <a:pt x="568" y="87"/>
                </a:lnTo>
                <a:lnTo>
                  <a:pt x="581" y="92"/>
                </a:lnTo>
                <a:lnTo>
                  <a:pt x="594" y="97"/>
                </a:lnTo>
                <a:lnTo>
                  <a:pt x="594" y="97"/>
                </a:lnTo>
                <a:lnTo>
                  <a:pt x="581" y="104"/>
                </a:lnTo>
                <a:lnTo>
                  <a:pt x="570" y="113"/>
                </a:lnTo>
                <a:lnTo>
                  <a:pt x="560" y="121"/>
                </a:lnTo>
                <a:lnTo>
                  <a:pt x="552" y="133"/>
                </a:lnTo>
                <a:lnTo>
                  <a:pt x="545" y="142"/>
                </a:lnTo>
                <a:lnTo>
                  <a:pt x="540" y="154"/>
                </a:lnTo>
                <a:lnTo>
                  <a:pt x="537" y="165"/>
                </a:lnTo>
                <a:lnTo>
                  <a:pt x="537" y="178"/>
                </a:lnTo>
                <a:lnTo>
                  <a:pt x="537" y="178"/>
                </a:lnTo>
                <a:lnTo>
                  <a:pt x="537" y="189"/>
                </a:lnTo>
                <a:lnTo>
                  <a:pt x="540" y="201"/>
                </a:lnTo>
                <a:lnTo>
                  <a:pt x="545" y="212"/>
                </a:lnTo>
                <a:lnTo>
                  <a:pt x="551" y="223"/>
                </a:lnTo>
                <a:lnTo>
                  <a:pt x="560" y="233"/>
                </a:lnTo>
                <a:lnTo>
                  <a:pt x="570" y="243"/>
                </a:lnTo>
                <a:lnTo>
                  <a:pt x="581" y="252"/>
                </a:lnTo>
                <a:lnTo>
                  <a:pt x="594" y="260"/>
                </a:lnTo>
                <a:lnTo>
                  <a:pt x="608" y="268"/>
                </a:lnTo>
                <a:lnTo>
                  <a:pt x="622" y="275"/>
                </a:lnTo>
                <a:lnTo>
                  <a:pt x="639" y="281"/>
                </a:lnTo>
                <a:lnTo>
                  <a:pt x="657" y="286"/>
                </a:lnTo>
                <a:lnTo>
                  <a:pt x="674" y="290"/>
                </a:lnTo>
                <a:lnTo>
                  <a:pt x="693" y="293"/>
                </a:lnTo>
                <a:lnTo>
                  <a:pt x="713" y="294"/>
                </a:lnTo>
                <a:lnTo>
                  <a:pt x="734" y="296"/>
                </a:lnTo>
                <a:lnTo>
                  <a:pt x="734" y="296"/>
                </a:lnTo>
                <a:lnTo>
                  <a:pt x="755" y="294"/>
                </a:lnTo>
                <a:lnTo>
                  <a:pt x="778" y="293"/>
                </a:lnTo>
                <a:lnTo>
                  <a:pt x="803" y="290"/>
                </a:lnTo>
                <a:lnTo>
                  <a:pt x="830" y="285"/>
                </a:lnTo>
                <a:lnTo>
                  <a:pt x="859" y="278"/>
                </a:lnTo>
                <a:lnTo>
                  <a:pt x="889" y="270"/>
                </a:lnTo>
                <a:lnTo>
                  <a:pt x="920" y="262"/>
                </a:lnTo>
                <a:lnTo>
                  <a:pt x="952" y="254"/>
                </a:lnTo>
                <a:lnTo>
                  <a:pt x="985" y="244"/>
                </a:lnTo>
                <a:lnTo>
                  <a:pt x="1018" y="233"/>
                </a:lnTo>
                <a:lnTo>
                  <a:pt x="1053" y="222"/>
                </a:lnTo>
                <a:lnTo>
                  <a:pt x="1088" y="210"/>
                </a:lnTo>
                <a:lnTo>
                  <a:pt x="1122" y="199"/>
                </a:lnTo>
                <a:lnTo>
                  <a:pt x="1155" y="186"/>
                </a:lnTo>
                <a:lnTo>
                  <a:pt x="1190" y="173"/>
                </a:lnTo>
                <a:lnTo>
                  <a:pt x="1225" y="162"/>
                </a:lnTo>
                <a:lnTo>
                  <a:pt x="1258" y="149"/>
                </a:lnTo>
                <a:lnTo>
                  <a:pt x="1291" y="136"/>
                </a:lnTo>
                <a:lnTo>
                  <a:pt x="1323" y="125"/>
                </a:lnTo>
                <a:lnTo>
                  <a:pt x="1353" y="112"/>
                </a:lnTo>
                <a:lnTo>
                  <a:pt x="1381" y="100"/>
                </a:lnTo>
                <a:lnTo>
                  <a:pt x="1410" y="89"/>
                </a:lnTo>
                <a:lnTo>
                  <a:pt x="1435" y="79"/>
                </a:lnTo>
                <a:lnTo>
                  <a:pt x="1459" y="70"/>
                </a:lnTo>
                <a:lnTo>
                  <a:pt x="1481" y="60"/>
                </a:lnTo>
                <a:lnTo>
                  <a:pt x="1501" y="52"/>
                </a:lnTo>
                <a:lnTo>
                  <a:pt x="1517" y="45"/>
                </a:lnTo>
                <a:lnTo>
                  <a:pt x="1531" y="39"/>
                </a:lnTo>
                <a:lnTo>
                  <a:pt x="1544" y="34"/>
                </a:lnTo>
                <a:lnTo>
                  <a:pt x="1552" y="31"/>
                </a:lnTo>
                <a:lnTo>
                  <a:pt x="1558" y="29"/>
                </a:lnTo>
                <a:lnTo>
                  <a:pt x="1560" y="27"/>
                </a:lnTo>
                <a:lnTo>
                  <a:pt x="1560" y="27"/>
                </a:lnTo>
                <a:lnTo>
                  <a:pt x="1567" y="26"/>
                </a:lnTo>
                <a:lnTo>
                  <a:pt x="1577" y="23"/>
                </a:lnTo>
                <a:lnTo>
                  <a:pt x="1586" y="21"/>
                </a:lnTo>
                <a:lnTo>
                  <a:pt x="1596" y="19"/>
                </a:lnTo>
                <a:lnTo>
                  <a:pt x="1605" y="18"/>
                </a:lnTo>
                <a:lnTo>
                  <a:pt x="1616" y="16"/>
                </a:lnTo>
                <a:lnTo>
                  <a:pt x="1624" y="15"/>
                </a:lnTo>
                <a:lnTo>
                  <a:pt x="1634" y="13"/>
                </a:lnTo>
                <a:lnTo>
                  <a:pt x="1634" y="13"/>
                </a:lnTo>
                <a:lnTo>
                  <a:pt x="1645" y="13"/>
                </a:lnTo>
                <a:lnTo>
                  <a:pt x="1656" y="11"/>
                </a:lnTo>
                <a:lnTo>
                  <a:pt x="1665" y="13"/>
                </a:lnTo>
                <a:lnTo>
                  <a:pt x="1676" y="15"/>
                </a:lnTo>
                <a:lnTo>
                  <a:pt x="1687" y="16"/>
                </a:lnTo>
                <a:lnTo>
                  <a:pt x="1697" y="19"/>
                </a:lnTo>
                <a:lnTo>
                  <a:pt x="1708" y="24"/>
                </a:lnTo>
                <a:lnTo>
                  <a:pt x="1717" y="27"/>
                </a:lnTo>
                <a:lnTo>
                  <a:pt x="1727" y="34"/>
                </a:lnTo>
                <a:lnTo>
                  <a:pt x="1735" y="39"/>
                </a:lnTo>
                <a:lnTo>
                  <a:pt x="1744" y="45"/>
                </a:lnTo>
                <a:lnTo>
                  <a:pt x="1752" y="52"/>
                </a:lnTo>
                <a:lnTo>
                  <a:pt x="1760" y="60"/>
                </a:lnTo>
                <a:lnTo>
                  <a:pt x="1768" y="66"/>
                </a:lnTo>
                <a:lnTo>
                  <a:pt x="1774" y="74"/>
                </a:lnTo>
                <a:lnTo>
                  <a:pt x="1781" y="82"/>
                </a:lnTo>
                <a:lnTo>
                  <a:pt x="1781" y="82"/>
                </a:lnTo>
                <a:lnTo>
                  <a:pt x="1785" y="73"/>
                </a:lnTo>
                <a:lnTo>
                  <a:pt x="1793" y="63"/>
                </a:lnTo>
                <a:lnTo>
                  <a:pt x="1803" y="55"/>
                </a:lnTo>
                <a:lnTo>
                  <a:pt x="1814" y="47"/>
                </a:lnTo>
                <a:lnTo>
                  <a:pt x="1828" y="42"/>
                </a:lnTo>
                <a:lnTo>
                  <a:pt x="1842" y="37"/>
                </a:lnTo>
                <a:lnTo>
                  <a:pt x="1858" y="34"/>
                </a:lnTo>
                <a:lnTo>
                  <a:pt x="1875" y="32"/>
                </a:lnTo>
                <a:lnTo>
                  <a:pt x="1875" y="32"/>
                </a:lnTo>
                <a:lnTo>
                  <a:pt x="1889" y="34"/>
                </a:lnTo>
                <a:lnTo>
                  <a:pt x="1904" y="36"/>
                </a:lnTo>
                <a:lnTo>
                  <a:pt x="1918" y="39"/>
                </a:lnTo>
                <a:lnTo>
                  <a:pt x="1929" y="44"/>
                </a:lnTo>
                <a:lnTo>
                  <a:pt x="1940" y="50"/>
                </a:lnTo>
                <a:lnTo>
                  <a:pt x="1951" y="57"/>
                </a:lnTo>
                <a:lnTo>
                  <a:pt x="1959" y="65"/>
                </a:lnTo>
                <a:lnTo>
                  <a:pt x="1965" y="73"/>
                </a:lnTo>
                <a:lnTo>
                  <a:pt x="1965" y="73"/>
                </a:lnTo>
                <a:lnTo>
                  <a:pt x="1948" y="81"/>
                </a:lnTo>
                <a:lnTo>
                  <a:pt x="1931" y="91"/>
                </a:lnTo>
                <a:lnTo>
                  <a:pt x="1916" y="100"/>
                </a:lnTo>
                <a:lnTo>
                  <a:pt x="1902" y="110"/>
                </a:lnTo>
                <a:lnTo>
                  <a:pt x="1893" y="123"/>
                </a:lnTo>
                <a:lnTo>
                  <a:pt x="1885" y="134"/>
                </a:lnTo>
                <a:lnTo>
                  <a:pt x="1878" y="147"/>
                </a:lnTo>
                <a:lnTo>
                  <a:pt x="1877" y="160"/>
                </a:lnTo>
                <a:lnTo>
                  <a:pt x="1877" y="160"/>
                </a:lnTo>
                <a:lnTo>
                  <a:pt x="1878" y="170"/>
                </a:lnTo>
                <a:lnTo>
                  <a:pt x="1880" y="178"/>
                </a:lnTo>
                <a:lnTo>
                  <a:pt x="1885" y="188"/>
                </a:lnTo>
                <a:lnTo>
                  <a:pt x="1889" y="196"/>
                </a:lnTo>
                <a:lnTo>
                  <a:pt x="1897" y="205"/>
                </a:lnTo>
                <a:lnTo>
                  <a:pt x="1905" y="213"/>
                </a:lnTo>
                <a:lnTo>
                  <a:pt x="1915" y="220"/>
                </a:lnTo>
                <a:lnTo>
                  <a:pt x="1926" y="228"/>
                </a:lnTo>
                <a:lnTo>
                  <a:pt x="1937" y="235"/>
                </a:lnTo>
                <a:lnTo>
                  <a:pt x="1949" y="239"/>
                </a:lnTo>
                <a:lnTo>
                  <a:pt x="1964" y="244"/>
                </a:lnTo>
                <a:lnTo>
                  <a:pt x="1978" y="249"/>
                </a:lnTo>
                <a:lnTo>
                  <a:pt x="1992" y="252"/>
                </a:lnTo>
                <a:lnTo>
                  <a:pt x="2008" y="254"/>
                </a:lnTo>
                <a:lnTo>
                  <a:pt x="2025" y="256"/>
                </a:lnTo>
                <a:lnTo>
                  <a:pt x="2041" y="257"/>
                </a:lnTo>
                <a:lnTo>
                  <a:pt x="2041" y="257"/>
                </a:lnTo>
                <a:lnTo>
                  <a:pt x="2058" y="256"/>
                </a:lnTo>
                <a:lnTo>
                  <a:pt x="2074" y="254"/>
                </a:lnTo>
                <a:lnTo>
                  <a:pt x="2092" y="252"/>
                </a:lnTo>
                <a:lnTo>
                  <a:pt x="2106" y="249"/>
                </a:lnTo>
                <a:lnTo>
                  <a:pt x="2122" y="244"/>
                </a:lnTo>
                <a:lnTo>
                  <a:pt x="2136" y="239"/>
                </a:lnTo>
                <a:lnTo>
                  <a:pt x="2148" y="235"/>
                </a:lnTo>
                <a:lnTo>
                  <a:pt x="2161" y="228"/>
                </a:lnTo>
                <a:lnTo>
                  <a:pt x="2172" y="220"/>
                </a:lnTo>
                <a:lnTo>
                  <a:pt x="2182" y="213"/>
                </a:lnTo>
                <a:lnTo>
                  <a:pt x="2189" y="205"/>
                </a:lnTo>
                <a:lnTo>
                  <a:pt x="2197" y="196"/>
                </a:lnTo>
                <a:lnTo>
                  <a:pt x="2202" y="188"/>
                </a:lnTo>
                <a:lnTo>
                  <a:pt x="2205" y="178"/>
                </a:lnTo>
                <a:lnTo>
                  <a:pt x="2207" y="170"/>
                </a:lnTo>
                <a:lnTo>
                  <a:pt x="2205" y="160"/>
                </a:lnTo>
                <a:lnTo>
                  <a:pt x="2205" y="160"/>
                </a:lnTo>
                <a:lnTo>
                  <a:pt x="2204" y="149"/>
                </a:lnTo>
                <a:lnTo>
                  <a:pt x="2199" y="139"/>
                </a:lnTo>
                <a:lnTo>
                  <a:pt x="2193" y="129"/>
                </a:lnTo>
                <a:lnTo>
                  <a:pt x="2186" y="120"/>
                </a:lnTo>
                <a:lnTo>
                  <a:pt x="2177" y="112"/>
                </a:lnTo>
                <a:lnTo>
                  <a:pt x="2167" y="102"/>
                </a:lnTo>
                <a:lnTo>
                  <a:pt x="2156" y="94"/>
                </a:lnTo>
                <a:lnTo>
                  <a:pt x="2145" y="86"/>
                </a:lnTo>
                <a:lnTo>
                  <a:pt x="2145" y="86"/>
                </a:lnTo>
                <a:lnTo>
                  <a:pt x="2155" y="76"/>
                </a:lnTo>
                <a:lnTo>
                  <a:pt x="2164" y="68"/>
                </a:lnTo>
                <a:lnTo>
                  <a:pt x="2175" y="60"/>
                </a:lnTo>
                <a:lnTo>
                  <a:pt x="2185" y="52"/>
                </a:lnTo>
                <a:lnTo>
                  <a:pt x="2197" y="45"/>
                </a:lnTo>
                <a:lnTo>
                  <a:pt x="2208" y="39"/>
                </a:lnTo>
                <a:lnTo>
                  <a:pt x="2221" y="32"/>
                </a:lnTo>
                <a:lnTo>
                  <a:pt x="2234" y="27"/>
                </a:lnTo>
                <a:lnTo>
                  <a:pt x="2246" y="23"/>
                </a:lnTo>
                <a:lnTo>
                  <a:pt x="2260" y="18"/>
                </a:lnTo>
                <a:lnTo>
                  <a:pt x="2275" y="15"/>
                </a:lnTo>
                <a:lnTo>
                  <a:pt x="2289" y="11"/>
                </a:lnTo>
                <a:lnTo>
                  <a:pt x="2301" y="10"/>
                </a:lnTo>
                <a:lnTo>
                  <a:pt x="2317" y="8"/>
                </a:lnTo>
                <a:lnTo>
                  <a:pt x="2331" y="6"/>
                </a:lnTo>
                <a:lnTo>
                  <a:pt x="2347" y="6"/>
                </a:lnTo>
                <a:lnTo>
                  <a:pt x="2347" y="6"/>
                </a:lnTo>
                <a:lnTo>
                  <a:pt x="2361" y="6"/>
                </a:lnTo>
                <a:lnTo>
                  <a:pt x="2376" y="8"/>
                </a:lnTo>
                <a:lnTo>
                  <a:pt x="2388" y="8"/>
                </a:lnTo>
                <a:lnTo>
                  <a:pt x="2402" y="11"/>
                </a:lnTo>
                <a:lnTo>
                  <a:pt x="2415" y="13"/>
                </a:lnTo>
                <a:lnTo>
                  <a:pt x="2429" y="16"/>
                </a:lnTo>
                <a:lnTo>
                  <a:pt x="2442" y="21"/>
                </a:lnTo>
                <a:lnTo>
                  <a:pt x="2455" y="24"/>
                </a:lnTo>
                <a:lnTo>
                  <a:pt x="2466" y="29"/>
                </a:lnTo>
                <a:lnTo>
                  <a:pt x="2478" y="34"/>
                </a:lnTo>
                <a:lnTo>
                  <a:pt x="2489" y="40"/>
                </a:lnTo>
                <a:lnTo>
                  <a:pt x="2500" y="45"/>
                </a:lnTo>
                <a:lnTo>
                  <a:pt x="2510" y="52"/>
                </a:lnTo>
                <a:lnTo>
                  <a:pt x="2521" y="58"/>
                </a:lnTo>
                <a:lnTo>
                  <a:pt x="2530" y="66"/>
                </a:lnTo>
                <a:lnTo>
                  <a:pt x="2540" y="73"/>
                </a:lnTo>
                <a:lnTo>
                  <a:pt x="2540" y="73"/>
                </a:lnTo>
                <a:lnTo>
                  <a:pt x="2535" y="82"/>
                </a:lnTo>
                <a:lnTo>
                  <a:pt x="2530" y="94"/>
                </a:lnTo>
                <a:lnTo>
                  <a:pt x="2526" y="104"/>
                </a:lnTo>
                <a:lnTo>
                  <a:pt x="2522" y="115"/>
                </a:lnTo>
                <a:lnTo>
                  <a:pt x="2521" y="128"/>
                </a:lnTo>
                <a:lnTo>
                  <a:pt x="2518" y="139"/>
                </a:lnTo>
                <a:lnTo>
                  <a:pt x="2518" y="150"/>
                </a:lnTo>
                <a:lnTo>
                  <a:pt x="2516" y="162"/>
                </a:lnTo>
                <a:lnTo>
                  <a:pt x="2516" y="162"/>
                </a:lnTo>
                <a:lnTo>
                  <a:pt x="2518" y="180"/>
                </a:lnTo>
                <a:lnTo>
                  <a:pt x="2521" y="196"/>
                </a:lnTo>
                <a:lnTo>
                  <a:pt x="2524" y="212"/>
                </a:lnTo>
                <a:lnTo>
                  <a:pt x="2530" y="226"/>
                </a:lnTo>
                <a:lnTo>
                  <a:pt x="2538" y="239"/>
                </a:lnTo>
                <a:lnTo>
                  <a:pt x="2548" y="251"/>
                </a:lnTo>
                <a:lnTo>
                  <a:pt x="2557" y="262"/>
                </a:lnTo>
                <a:lnTo>
                  <a:pt x="2568" y="272"/>
                </a:lnTo>
                <a:lnTo>
                  <a:pt x="2581" y="280"/>
                </a:lnTo>
                <a:lnTo>
                  <a:pt x="2593" y="285"/>
                </a:lnTo>
                <a:lnTo>
                  <a:pt x="2608" y="290"/>
                </a:lnTo>
                <a:lnTo>
                  <a:pt x="2623" y="293"/>
                </a:lnTo>
                <a:lnTo>
                  <a:pt x="2638" y="293"/>
                </a:lnTo>
                <a:lnTo>
                  <a:pt x="2655" y="293"/>
                </a:lnTo>
                <a:lnTo>
                  <a:pt x="2671" y="290"/>
                </a:lnTo>
                <a:lnTo>
                  <a:pt x="2687" y="283"/>
                </a:lnTo>
                <a:lnTo>
                  <a:pt x="2687" y="283"/>
                </a:lnTo>
                <a:lnTo>
                  <a:pt x="2699" y="278"/>
                </a:lnTo>
                <a:lnTo>
                  <a:pt x="2710" y="273"/>
                </a:lnTo>
                <a:lnTo>
                  <a:pt x="2721" y="265"/>
                </a:lnTo>
                <a:lnTo>
                  <a:pt x="2729" y="259"/>
                </a:lnTo>
                <a:lnTo>
                  <a:pt x="2739" y="249"/>
                </a:lnTo>
                <a:lnTo>
                  <a:pt x="2745" y="241"/>
                </a:lnTo>
                <a:lnTo>
                  <a:pt x="2751" y="231"/>
                </a:lnTo>
                <a:lnTo>
                  <a:pt x="2756" y="220"/>
                </a:lnTo>
                <a:lnTo>
                  <a:pt x="2759" y="210"/>
                </a:lnTo>
                <a:lnTo>
                  <a:pt x="2761" y="199"/>
                </a:lnTo>
                <a:lnTo>
                  <a:pt x="2761" y="188"/>
                </a:lnTo>
                <a:lnTo>
                  <a:pt x="2761" y="176"/>
                </a:lnTo>
                <a:lnTo>
                  <a:pt x="2758" y="165"/>
                </a:lnTo>
                <a:lnTo>
                  <a:pt x="2753" y="154"/>
                </a:lnTo>
                <a:lnTo>
                  <a:pt x="2747" y="142"/>
                </a:lnTo>
                <a:lnTo>
                  <a:pt x="2737" y="131"/>
                </a:lnTo>
                <a:lnTo>
                  <a:pt x="2737" y="131"/>
                </a:lnTo>
                <a:lnTo>
                  <a:pt x="2729" y="123"/>
                </a:lnTo>
                <a:lnTo>
                  <a:pt x="2721" y="116"/>
                </a:lnTo>
                <a:lnTo>
                  <a:pt x="2713" y="112"/>
                </a:lnTo>
                <a:lnTo>
                  <a:pt x="2704" y="107"/>
                </a:lnTo>
                <a:lnTo>
                  <a:pt x="2695" y="104"/>
                </a:lnTo>
                <a:lnTo>
                  <a:pt x="2685" y="102"/>
                </a:lnTo>
                <a:lnTo>
                  <a:pt x="2676" y="100"/>
                </a:lnTo>
                <a:lnTo>
                  <a:pt x="2666" y="102"/>
                </a:lnTo>
                <a:lnTo>
                  <a:pt x="2657" y="102"/>
                </a:lnTo>
                <a:lnTo>
                  <a:pt x="2647" y="105"/>
                </a:lnTo>
                <a:lnTo>
                  <a:pt x="2639" y="108"/>
                </a:lnTo>
                <a:lnTo>
                  <a:pt x="2630" y="113"/>
                </a:lnTo>
                <a:lnTo>
                  <a:pt x="2623" y="120"/>
                </a:lnTo>
                <a:lnTo>
                  <a:pt x="2616" y="126"/>
                </a:lnTo>
                <a:lnTo>
                  <a:pt x="2609" y="136"/>
                </a:lnTo>
                <a:lnTo>
                  <a:pt x="2605" y="146"/>
                </a:lnTo>
                <a:lnTo>
                  <a:pt x="2605" y="146"/>
                </a:lnTo>
                <a:lnTo>
                  <a:pt x="2601" y="155"/>
                </a:lnTo>
                <a:lnTo>
                  <a:pt x="2600" y="165"/>
                </a:lnTo>
                <a:lnTo>
                  <a:pt x="2598" y="173"/>
                </a:lnTo>
                <a:lnTo>
                  <a:pt x="2598" y="183"/>
                </a:lnTo>
                <a:lnTo>
                  <a:pt x="2600" y="191"/>
                </a:lnTo>
                <a:lnTo>
                  <a:pt x="2601" y="199"/>
                </a:lnTo>
                <a:lnTo>
                  <a:pt x="2605" y="205"/>
                </a:lnTo>
                <a:lnTo>
                  <a:pt x="2608" y="210"/>
                </a:lnTo>
                <a:lnTo>
                  <a:pt x="2608" y="210"/>
                </a:lnTo>
                <a:lnTo>
                  <a:pt x="2614" y="218"/>
                </a:lnTo>
                <a:lnTo>
                  <a:pt x="2620" y="220"/>
                </a:lnTo>
                <a:lnTo>
                  <a:pt x="2625" y="218"/>
                </a:lnTo>
                <a:lnTo>
                  <a:pt x="2630" y="213"/>
                </a:lnTo>
                <a:lnTo>
                  <a:pt x="2630" y="209"/>
                </a:lnTo>
                <a:lnTo>
                  <a:pt x="2630" y="202"/>
                </a:lnTo>
                <a:lnTo>
                  <a:pt x="2625" y="199"/>
                </a:lnTo>
                <a:lnTo>
                  <a:pt x="2617" y="201"/>
                </a:lnTo>
                <a:lnTo>
                  <a:pt x="2614" y="196"/>
                </a:lnTo>
                <a:lnTo>
                  <a:pt x="2612" y="191"/>
                </a:lnTo>
                <a:lnTo>
                  <a:pt x="2612" y="191"/>
                </a:lnTo>
                <a:lnTo>
                  <a:pt x="2611" y="173"/>
                </a:lnTo>
                <a:lnTo>
                  <a:pt x="2612" y="157"/>
                </a:lnTo>
                <a:lnTo>
                  <a:pt x="2617" y="142"/>
                </a:lnTo>
                <a:lnTo>
                  <a:pt x="2625" y="131"/>
                </a:lnTo>
                <a:lnTo>
                  <a:pt x="2636" y="121"/>
                </a:lnTo>
                <a:lnTo>
                  <a:pt x="2649" y="115"/>
                </a:lnTo>
                <a:lnTo>
                  <a:pt x="2665" y="112"/>
                </a:lnTo>
                <a:lnTo>
                  <a:pt x="2682" y="112"/>
                </a:lnTo>
                <a:lnTo>
                  <a:pt x="2682" y="112"/>
                </a:lnTo>
                <a:lnTo>
                  <a:pt x="2695" y="115"/>
                </a:lnTo>
                <a:lnTo>
                  <a:pt x="2704" y="120"/>
                </a:lnTo>
                <a:lnTo>
                  <a:pt x="2713" y="125"/>
                </a:lnTo>
                <a:lnTo>
                  <a:pt x="2723" y="131"/>
                </a:lnTo>
                <a:lnTo>
                  <a:pt x="2731" y="139"/>
                </a:lnTo>
                <a:lnTo>
                  <a:pt x="2737" y="147"/>
                </a:lnTo>
                <a:lnTo>
                  <a:pt x="2742" y="155"/>
                </a:lnTo>
                <a:lnTo>
                  <a:pt x="2747" y="165"/>
                </a:lnTo>
                <a:lnTo>
                  <a:pt x="2750" y="175"/>
                </a:lnTo>
                <a:lnTo>
                  <a:pt x="2751" y="186"/>
                </a:lnTo>
                <a:lnTo>
                  <a:pt x="2751" y="196"/>
                </a:lnTo>
                <a:lnTo>
                  <a:pt x="2750" y="207"/>
                </a:lnTo>
                <a:lnTo>
                  <a:pt x="2747" y="217"/>
                </a:lnTo>
                <a:lnTo>
                  <a:pt x="2742" y="228"/>
                </a:lnTo>
                <a:lnTo>
                  <a:pt x="2737" y="238"/>
                </a:lnTo>
                <a:lnTo>
                  <a:pt x="2729" y="247"/>
                </a:lnTo>
                <a:lnTo>
                  <a:pt x="2729" y="247"/>
                </a:lnTo>
                <a:lnTo>
                  <a:pt x="2715" y="259"/>
                </a:lnTo>
                <a:lnTo>
                  <a:pt x="2699" y="268"/>
                </a:lnTo>
                <a:lnTo>
                  <a:pt x="2683" y="275"/>
                </a:lnTo>
                <a:lnTo>
                  <a:pt x="2668" y="280"/>
                </a:lnTo>
                <a:lnTo>
                  <a:pt x="2652" y="283"/>
                </a:lnTo>
                <a:lnTo>
                  <a:pt x="2636" y="283"/>
                </a:lnTo>
                <a:lnTo>
                  <a:pt x="2620" y="281"/>
                </a:lnTo>
                <a:lnTo>
                  <a:pt x="2606" y="278"/>
                </a:lnTo>
                <a:lnTo>
                  <a:pt x="2592" y="273"/>
                </a:lnTo>
                <a:lnTo>
                  <a:pt x="2578" y="265"/>
                </a:lnTo>
                <a:lnTo>
                  <a:pt x="2565" y="257"/>
                </a:lnTo>
                <a:lnTo>
                  <a:pt x="2554" y="246"/>
                </a:lnTo>
                <a:lnTo>
                  <a:pt x="2545" y="231"/>
                </a:lnTo>
                <a:lnTo>
                  <a:pt x="2537" y="217"/>
                </a:lnTo>
                <a:lnTo>
                  <a:pt x="2530" y="199"/>
                </a:lnTo>
                <a:lnTo>
                  <a:pt x="2527" y="181"/>
                </a:lnTo>
                <a:lnTo>
                  <a:pt x="2527" y="181"/>
                </a:lnTo>
                <a:lnTo>
                  <a:pt x="2526" y="170"/>
                </a:lnTo>
                <a:lnTo>
                  <a:pt x="2527" y="157"/>
                </a:lnTo>
                <a:lnTo>
                  <a:pt x="2527" y="144"/>
                </a:lnTo>
                <a:lnTo>
                  <a:pt x="2530" y="129"/>
                </a:lnTo>
                <a:lnTo>
                  <a:pt x="2534" y="115"/>
                </a:lnTo>
                <a:lnTo>
                  <a:pt x="2537" y="102"/>
                </a:lnTo>
                <a:lnTo>
                  <a:pt x="2541" y="89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56" y="73"/>
                </a:lnTo>
                <a:lnTo>
                  <a:pt x="2564" y="65"/>
                </a:lnTo>
                <a:lnTo>
                  <a:pt x="2571" y="57"/>
                </a:lnTo>
                <a:lnTo>
                  <a:pt x="2579" y="49"/>
                </a:lnTo>
                <a:lnTo>
                  <a:pt x="2589" y="42"/>
                </a:lnTo>
                <a:lnTo>
                  <a:pt x="2598" y="36"/>
                </a:lnTo>
                <a:lnTo>
                  <a:pt x="2608" y="29"/>
                </a:lnTo>
                <a:lnTo>
                  <a:pt x="2617" y="23"/>
                </a:lnTo>
                <a:lnTo>
                  <a:pt x="2628" y="18"/>
                </a:lnTo>
                <a:lnTo>
                  <a:pt x="2639" y="13"/>
                </a:lnTo>
                <a:lnTo>
                  <a:pt x="2649" y="10"/>
                </a:lnTo>
                <a:lnTo>
                  <a:pt x="2660" y="6"/>
                </a:lnTo>
                <a:lnTo>
                  <a:pt x="2672" y="3"/>
                </a:lnTo>
                <a:lnTo>
                  <a:pt x="2683" y="2"/>
                </a:lnTo>
                <a:lnTo>
                  <a:pt x="2695" y="0"/>
                </a:lnTo>
                <a:lnTo>
                  <a:pt x="2707" y="0"/>
                </a:lnTo>
                <a:lnTo>
                  <a:pt x="2707" y="0"/>
                </a:lnTo>
                <a:lnTo>
                  <a:pt x="2728" y="3"/>
                </a:lnTo>
                <a:lnTo>
                  <a:pt x="2747" y="6"/>
                </a:lnTo>
                <a:lnTo>
                  <a:pt x="2766" y="13"/>
                </a:lnTo>
                <a:lnTo>
                  <a:pt x="2781" y="21"/>
                </a:lnTo>
                <a:lnTo>
                  <a:pt x="2796" y="31"/>
                </a:lnTo>
                <a:lnTo>
                  <a:pt x="2808" y="42"/>
                </a:lnTo>
                <a:lnTo>
                  <a:pt x="2819" y="53"/>
                </a:lnTo>
                <a:lnTo>
                  <a:pt x="2830" y="66"/>
                </a:lnTo>
                <a:lnTo>
                  <a:pt x="2840" y="79"/>
                </a:lnTo>
                <a:lnTo>
                  <a:pt x="2848" y="94"/>
                </a:lnTo>
                <a:lnTo>
                  <a:pt x="2854" y="108"/>
                </a:lnTo>
                <a:lnTo>
                  <a:pt x="2860" y="121"/>
                </a:lnTo>
                <a:lnTo>
                  <a:pt x="2867" y="136"/>
                </a:lnTo>
                <a:lnTo>
                  <a:pt x="2871" y="150"/>
                </a:lnTo>
                <a:lnTo>
                  <a:pt x="2876" y="163"/>
                </a:lnTo>
                <a:lnTo>
                  <a:pt x="2879" y="176"/>
                </a:lnTo>
                <a:lnTo>
                  <a:pt x="2879" y="176"/>
                </a:lnTo>
                <a:lnTo>
                  <a:pt x="2884" y="163"/>
                </a:lnTo>
                <a:lnTo>
                  <a:pt x="2887" y="150"/>
                </a:lnTo>
                <a:lnTo>
                  <a:pt x="2890" y="136"/>
                </a:lnTo>
                <a:lnTo>
                  <a:pt x="2895" y="121"/>
                </a:lnTo>
                <a:lnTo>
                  <a:pt x="2900" y="108"/>
                </a:lnTo>
                <a:lnTo>
                  <a:pt x="2906" y="94"/>
                </a:lnTo>
                <a:lnTo>
                  <a:pt x="2914" y="79"/>
                </a:lnTo>
                <a:lnTo>
                  <a:pt x="2922" y="66"/>
                </a:lnTo>
                <a:lnTo>
                  <a:pt x="2931" y="53"/>
                </a:lnTo>
                <a:lnTo>
                  <a:pt x="2942" y="42"/>
                </a:lnTo>
                <a:lnTo>
                  <a:pt x="2955" y="31"/>
                </a:lnTo>
                <a:lnTo>
                  <a:pt x="2971" y="21"/>
                </a:lnTo>
                <a:lnTo>
                  <a:pt x="2988" y="13"/>
                </a:lnTo>
                <a:lnTo>
                  <a:pt x="3007" y="6"/>
                </a:lnTo>
                <a:lnTo>
                  <a:pt x="3028" y="2"/>
                </a:lnTo>
                <a:lnTo>
                  <a:pt x="3053" y="0"/>
                </a:lnTo>
                <a:lnTo>
                  <a:pt x="3053" y="0"/>
                </a:lnTo>
                <a:lnTo>
                  <a:pt x="3064" y="0"/>
                </a:lnTo>
                <a:lnTo>
                  <a:pt x="3077" y="2"/>
                </a:lnTo>
                <a:lnTo>
                  <a:pt x="3088" y="3"/>
                </a:lnTo>
                <a:lnTo>
                  <a:pt x="3099" y="5"/>
                </a:lnTo>
                <a:lnTo>
                  <a:pt x="3110" y="8"/>
                </a:lnTo>
                <a:lnTo>
                  <a:pt x="3121" y="13"/>
                </a:lnTo>
                <a:lnTo>
                  <a:pt x="3130" y="18"/>
                </a:lnTo>
                <a:lnTo>
                  <a:pt x="3141" y="23"/>
                </a:lnTo>
                <a:lnTo>
                  <a:pt x="3151" y="29"/>
                </a:lnTo>
                <a:lnTo>
                  <a:pt x="3160" y="34"/>
                </a:lnTo>
                <a:lnTo>
                  <a:pt x="3170" y="42"/>
                </a:lnTo>
                <a:lnTo>
                  <a:pt x="3179" y="49"/>
                </a:lnTo>
                <a:lnTo>
                  <a:pt x="3187" y="57"/>
                </a:lnTo>
                <a:lnTo>
                  <a:pt x="3195" y="65"/>
                </a:lnTo>
                <a:lnTo>
                  <a:pt x="3203" y="73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2" y="81"/>
                </a:lnTo>
                <a:lnTo>
                  <a:pt x="3212" y="81"/>
                </a:lnTo>
                <a:lnTo>
                  <a:pt x="3217" y="89"/>
                </a:lnTo>
                <a:lnTo>
                  <a:pt x="3222" y="100"/>
                </a:lnTo>
                <a:lnTo>
                  <a:pt x="3226" y="115"/>
                </a:lnTo>
                <a:lnTo>
                  <a:pt x="3230" y="128"/>
                </a:lnTo>
                <a:lnTo>
                  <a:pt x="3231" y="142"/>
                </a:lnTo>
                <a:lnTo>
                  <a:pt x="3231" y="157"/>
                </a:lnTo>
                <a:lnTo>
                  <a:pt x="3233" y="170"/>
                </a:lnTo>
                <a:lnTo>
                  <a:pt x="3231" y="181"/>
                </a:lnTo>
                <a:lnTo>
                  <a:pt x="3231" y="181"/>
                </a:lnTo>
                <a:lnTo>
                  <a:pt x="3228" y="199"/>
                </a:lnTo>
                <a:lnTo>
                  <a:pt x="3222" y="217"/>
                </a:lnTo>
                <a:lnTo>
                  <a:pt x="3214" y="231"/>
                </a:lnTo>
                <a:lnTo>
                  <a:pt x="3204" y="246"/>
                </a:lnTo>
                <a:lnTo>
                  <a:pt x="3193" y="257"/>
                </a:lnTo>
                <a:lnTo>
                  <a:pt x="3181" y="265"/>
                </a:lnTo>
                <a:lnTo>
                  <a:pt x="3167" y="273"/>
                </a:lnTo>
                <a:lnTo>
                  <a:pt x="3152" y="278"/>
                </a:lnTo>
                <a:lnTo>
                  <a:pt x="3138" y="281"/>
                </a:lnTo>
                <a:lnTo>
                  <a:pt x="3122" y="283"/>
                </a:lnTo>
                <a:lnTo>
                  <a:pt x="3107" y="283"/>
                </a:lnTo>
                <a:lnTo>
                  <a:pt x="3091" y="280"/>
                </a:lnTo>
                <a:lnTo>
                  <a:pt x="3075" y="275"/>
                </a:lnTo>
                <a:lnTo>
                  <a:pt x="3059" y="268"/>
                </a:lnTo>
                <a:lnTo>
                  <a:pt x="3043" y="259"/>
                </a:lnTo>
                <a:lnTo>
                  <a:pt x="3029" y="247"/>
                </a:lnTo>
                <a:lnTo>
                  <a:pt x="3029" y="247"/>
                </a:lnTo>
                <a:lnTo>
                  <a:pt x="3021" y="238"/>
                </a:lnTo>
                <a:lnTo>
                  <a:pt x="3017" y="228"/>
                </a:lnTo>
                <a:lnTo>
                  <a:pt x="3012" y="217"/>
                </a:lnTo>
                <a:lnTo>
                  <a:pt x="3009" y="207"/>
                </a:lnTo>
                <a:lnTo>
                  <a:pt x="3007" y="196"/>
                </a:lnTo>
                <a:lnTo>
                  <a:pt x="3007" y="186"/>
                </a:lnTo>
                <a:lnTo>
                  <a:pt x="3009" y="175"/>
                </a:lnTo>
                <a:lnTo>
                  <a:pt x="3012" y="165"/>
                </a:lnTo>
                <a:lnTo>
                  <a:pt x="3017" y="155"/>
                </a:lnTo>
                <a:lnTo>
                  <a:pt x="3021" y="147"/>
                </a:lnTo>
                <a:lnTo>
                  <a:pt x="3028" y="139"/>
                </a:lnTo>
                <a:lnTo>
                  <a:pt x="3035" y="131"/>
                </a:lnTo>
                <a:lnTo>
                  <a:pt x="3045" y="125"/>
                </a:lnTo>
                <a:lnTo>
                  <a:pt x="3054" y="120"/>
                </a:lnTo>
                <a:lnTo>
                  <a:pt x="3064" y="115"/>
                </a:lnTo>
                <a:lnTo>
                  <a:pt x="3077" y="112"/>
                </a:lnTo>
                <a:lnTo>
                  <a:pt x="3077" y="112"/>
                </a:lnTo>
                <a:lnTo>
                  <a:pt x="3094" y="112"/>
                </a:lnTo>
                <a:lnTo>
                  <a:pt x="3110" y="115"/>
                </a:lnTo>
                <a:lnTo>
                  <a:pt x="3122" y="121"/>
                </a:lnTo>
                <a:lnTo>
                  <a:pt x="3133" y="131"/>
                </a:lnTo>
                <a:lnTo>
                  <a:pt x="3141" y="142"/>
                </a:lnTo>
                <a:lnTo>
                  <a:pt x="3146" y="157"/>
                </a:lnTo>
                <a:lnTo>
                  <a:pt x="3148" y="173"/>
                </a:lnTo>
                <a:lnTo>
                  <a:pt x="3146" y="191"/>
                </a:lnTo>
                <a:lnTo>
                  <a:pt x="3144" y="196"/>
                </a:lnTo>
                <a:lnTo>
                  <a:pt x="3141" y="201"/>
                </a:lnTo>
                <a:lnTo>
                  <a:pt x="3141" y="201"/>
                </a:lnTo>
                <a:lnTo>
                  <a:pt x="3133" y="199"/>
                </a:lnTo>
                <a:lnTo>
                  <a:pt x="3129" y="202"/>
                </a:lnTo>
                <a:lnTo>
                  <a:pt x="3129" y="209"/>
                </a:lnTo>
                <a:lnTo>
                  <a:pt x="3130" y="213"/>
                </a:lnTo>
                <a:lnTo>
                  <a:pt x="3133" y="218"/>
                </a:lnTo>
                <a:lnTo>
                  <a:pt x="3138" y="220"/>
                </a:lnTo>
                <a:lnTo>
                  <a:pt x="3144" y="218"/>
                </a:lnTo>
                <a:lnTo>
                  <a:pt x="3151" y="210"/>
                </a:lnTo>
                <a:lnTo>
                  <a:pt x="3151" y="210"/>
                </a:lnTo>
                <a:lnTo>
                  <a:pt x="3154" y="205"/>
                </a:lnTo>
                <a:lnTo>
                  <a:pt x="3157" y="199"/>
                </a:lnTo>
                <a:lnTo>
                  <a:pt x="3159" y="191"/>
                </a:lnTo>
                <a:lnTo>
                  <a:pt x="3160" y="183"/>
                </a:lnTo>
                <a:lnTo>
                  <a:pt x="3160" y="173"/>
                </a:lnTo>
                <a:lnTo>
                  <a:pt x="3159" y="165"/>
                </a:lnTo>
                <a:lnTo>
                  <a:pt x="3157" y="155"/>
                </a:lnTo>
                <a:lnTo>
                  <a:pt x="3154" y="146"/>
                </a:lnTo>
                <a:lnTo>
                  <a:pt x="3154" y="146"/>
                </a:lnTo>
                <a:lnTo>
                  <a:pt x="3149" y="136"/>
                </a:lnTo>
                <a:lnTo>
                  <a:pt x="3143" y="126"/>
                </a:lnTo>
                <a:lnTo>
                  <a:pt x="3135" y="120"/>
                </a:lnTo>
                <a:lnTo>
                  <a:pt x="3129" y="113"/>
                </a:lnTo>
                <a:lnTo>
                  <a:pt x="3119" y="108"/>
                </a:lnTo>
                <a:lnTo>
                  <a:pt x="3111" y="105"/>
                </a:lnTo>
                <a:lnTo>
                  <a:pt x="3102" y="102"/>
                </a:lnTo>
                <a:lnTo>
                  <a:pt x="3092" y="102"/>
                </a:lnTo>
                <a:lnTo>
                  <a:pt x="3083" y="100"/>
                </a:lnTo>
                <a:lnTo>
                  <a:pt x="3073" y="102"/>
                </a:lnTo>
                <a:lnTo>
                  <a:pt x="3064" y="104"/>
                </a:lnTo>
                <a:lnTo>
                  <a:pt x="3054" y="107"/>
                </a:lnTo>
                <a:lnTo>
                  <a:pt x="3045" y="112"/>
                </a:lnTo>
                <a:lnTo>
                  <a:pt x="3037" y="116"/>
                </a:lnTo>
                <a:lnTo>
                  <a:pt x="3029" y="123"/>
                </a:lnTo>
                <a:lnTo>
                  <a:pt x="3021" y="131"/>
                </a:lnTo>
                <a:lnTo>
                  <a:pt x="3021" y="131"/>
                </a:lnTo>
                <a:lnTo>
                  <a:pt x="3012" y="142"/>
                </a:lnTo>
                <a:lnTo>
                  <a:pt x="3005" y="154"/>
                </a:lnTo>
                <a:lnTo>
                  <a:pt x="3001" y="165"/>
                </a:lnTo>
                <a:lnTo>
                  <a:pt x="2998" y="176"/>
                </a:lnTo>
                <a:lnTo>
                  <a:pt x="2998" y="188"/>
                </a:lnTo>
                <a:lnTo>
                  <a:pt x="2998" y="199"/>
                </a:lnTo>
                <a:lnTo>
                  <a:pt x="2999" y="210"/>
                </a:lnTo>
                <a:lnTo>
                  <a:pt x="3002" y="220"/>
                </a:lnTo>
                <a:lnTo>
                  <a:pt x="3007" y="231"/>
                </a:lnTo>
                <a:lnTo>
                  <a:pt x="3013" y="241"/>
                </a:lnTo>
                <a:lnTo>
                  <a:pt x="3020" y="249"/>
                </a:lnTo>
                <a:lnTo>
                  <a:pt x="3029" y="259"/>
                </a:lnTo>
                <a:lnTo>
                  <a:pt x="3037" y="265"/>
                </a:lnTo>
                <a:lnTo>
                  <a:pt x="3048" y="273"/>
                </a:lnTo>
                <a:lnTo>
                  <a:pt x="3059" y="278"/>
                </a:lnTo>
                <a:lnTo>
                  <a:pt x="3072" y="283"/>
                </a:lnTo>
                <a:lnTo>
                  <a:pt x="3072" y="283"/>
                </a:lnTo>
                <a:lnTo>
                  <a:pt x="3088" y="290"/>
                </a:lnTo>
                <a:lnTo>
                  <a:pt x="3103" y="293"/>
                </a:lnTo>
                <a:lnTo>
                  <a:pt x="3121" y="293"/>
                </a:lnTo>
                <a:lnTo>
                  <a:pt x="3135" y="293"/>
                </a:lnTo>
                <a:lnTo>
                  <a:pt x="3151" y="290"/>
                </a:lnTo>
                <a:lnTo>
                  <a:pt x="3165" y="285"/>
                </a:lnTo>
                <a:lnTo>
                  <a:pt x="3178" y="280"/>
                </a:lnTo>
                <a:lnTo>
                  <a:pt x="3190" y="272"/>
                </a:lnTo>
                <a:lnTo>
                  <a:pt x="3201" y="262"/>
                </a:lnTo>
                <a:lnTo>
                  <a:pt x="3211" y="251"/>
                </a:lnTo>
                <a:lnTo>
                  <a:pt x="3220" y="239"/>
                </a:lnTo>
                <a:lnTo>
                  <a:pt x="3228" y="226"/>
                </a:lnTo>
                <a:lnTo>
                  <a:pt x="3234" y="212"/>
                </a:lnTo>
                <a:lnTo>
                  <a:pt x="3238" y="196"/>
                </a:lnTo>
                <a:lnTo>
                  <a:pt x="3241" y="180"/>
                </a:lnTo>
                <a:lnTo>
                  <a:pt x="3242" y="162"/>
                </a:lnTo>
                <a:lnTo>
                  <a:pt x="3242" y="162"/>
                </a:lnTo>
                <a:lnTo>
                  <a:pt x="3241" y="150"/>
                </a:lnTo>
                <a:lnTo>
                  <a:pt x="3241" y="139"/>
                </a:lnTo>
                <a:lnTo>
                  <a:pt x="3238" y="128"/>
                </a:lnTo>
                <a:lnTo>
                  <a:pt x="3236" y="115"/>
                </a:lnTo>
                <a:lnTo>
                  <a:pt x="3233" y="104"/>
                </a:lnTo>
                <a:lnTo>
                  <a:pt x="3228" y="94"/>
                </a:lnTo>
                <a:lnTo>
                  <a:pt x="3225" y="82"/>
                </a:lnTo>
                <a:lnTo>
                  <a:pt x="3220" y="73"/>
                </a:lnTo>
                <a:lnTo>
                  <a:pt x="3220" y="73"/>
                </a:lnTo>
                <a:lnTo>
                  <a:pt x="3228" y="66"/>
                </a:lnTo>
                <a:lnTo>
                  <a:pt x="3238" y="58"/>
                </a:lnTo>
                <a:lnTo>
                  <a:pt x="3249" y="52"/>
                </a:lnTo>
                <a:lnTo>
                  <a:pt x="3258" y="45"/>
                </a:lnTo>
                <a:lnTo>
                  <a:pt x="3269" y="39"/>
                </a:lnTo>
                <a:lnTo>
                  <a:pt x="3282" y="34"/>
                </a:lnTo>
                <a:lnTo>
                  <a:pt x="3293" y="29"/>
                </a:lnTo>
                <a:lnTo>
                  <a:pt x="3305" y="24"/>
                </a:lnTo>
                <a:lnTo>
                  <a:pt x="3318" y="19"/>
                </a:lnTo>
                <a:lnTo>
                  <a:pt x="3331" y="16"/>
                </a:lnTo>
                <a:lnTo>
                  <a:pt x="3343" y="13"/>
                </a:lnTo>
                <a:lnTo>
                  <a:pt x="3356" y="11"/>
                </a:lnTo>
                <a:lnTo>
                  <a:pt x="3370" y="8"/>
                </a:lnTo>
                <a:lnTo>
                  <a:pt x="3384" y="6"/>
                </a:lnTo>
                <a:lnTo>
                  <a:pt x="3399" y="6"/>
                </a:lnTo>
                <a:lnTo>
                  <a:pt x="3413" y="6"/>
                </a:lnTo>
                <a:lnTo>
                  <a:pt x="3413" y="6"/>
                </a:lnTo>
                <a:lnTo>
                  <a:pt x="3427" y="6"/>
                </a:lnTo>
                <a:lnTo>
                  <a:pt x="3443" y="8"/>
                </a:lnTo>
                <a:lnTo>
                  <a:pt x="3455" y="10"/>
                </a:lnTo>
                <a:lnTo>
                  <a:pt x="3470" y="11"/>
                </a:lnTo>
                <a:lnTo>
                  <a:pt x="3484" y="15"/>
                </a:lnTo>
                <a:lnTo>
                  <a:pt x="3498" y="18"/>
                </a:lnTo>
                <a:lnTo>
                  <a:pt x="3512" y="23"/>
                </a:lnTo>
                <a:lnTo>
                  <a:pt x="3525" y="27"/>
                </a:lnTo>
                <a:lnTo>
                  <a:pt x="3537" y="32"/>
                </a:lnTo>
                <a:lnTo>
                  <a:pt x="3550" y="39"/>
                </a:lnTo>
                <a:lnTo>
                  <a:pt x="3561" y="45"/>
                </a:lnTo>
                <a:lnTo>
                  <a:pt x="3574" y="52"/>
                </a:lnTo>
                <a:lnTo>
                  <a:pt x="3585" y="60"/>
                </a:lnTo>
                <a:lnTo>
                  <a:pt x="3594" y="68"/>
                </a:lnTo>
                <a:lnTo>
                  <a:pt x="3605" y="76"/>
                </a:lnTo>
                <a:lnTo>
                  <a:pt x="3615" y="86"/>
                </a:lnTo>
                <a:lnTo>
                  <a:pt x="3615" y="86"/>
                </a:lnTo>
                <a:lnTo>
                  <a:pt x="3602" y="94"/>
                </a:lnTo>
                <a:lnTo>
                  <a:pt x="3591" y="102"/>
                </a:lnTo>
                <a:lnTo>
                  <a:pt x="3582" y="110"/>
                </a:lnTo>
                <a:lnTo>
                  <a:pt x="3574" y="120"/>
                </a:lnTo>
                <a:lnTo>
                  <a:pt x="3566" y="129"/>
                </a:lnTo>
                <a:lnTo>
                  <a:pt x="3560" y="139"/>
                </a:lnTo>
                <a:lnTo>
                  <a:pt x="3556" y="149"/>
                </a:lnTo>
                <a:lnTo>
                  <a:pt x="3553" y="159"/>
                </a:lnTo>
                <a:lnTo>
                  <a:pt x="3553" y="159"/>
                </a:lnTo>
                <a:lnTo>
                  <a:pt x="3552" y="168"/>
                </a:lnTo>
                <a:lnTo>
                  <a:pt x="3553" y="178"/>
                </a:lnTo>
                <a:lnTo>
                  <a:pt x="3556" y="188"/>
                </a:lnTo>
                <a:lnTo>
                  <a:pt x="3563" y="196"/>
                </a:lnTo>
                <a:lnTo>
                  <a:pt x="3569" y="204"/>
                </a:lnTo>
                <a:lnTo>
                  <a:pt x="3577" y="212"/>
                </a:lnTo>
                <a:lnTo>
                  <a:pt x="3586" y="220"/>
                </a:lnTo>
                <a:lnTo>
                  <a:pt x="3597" y="226"/>
                </a:lnTo>
                <a:lnTo>
                  <a:pt x="3610" y="233"/>
                </a:lnTo>
                <a:lnTo>
                  <a:pt x="3623" y="239"/>
                </a:lnTo>
                <a:lnTo>
                  <a:pt x="3637" y="244"/>
                </a:lnTo>
                <a:lnTo>
                  <a:pt x="3653" y="249"/>
                </a:lnTo>
                <a:lnTo>
                  <a:pt x="3668" y="252"/>
                </a:lnTo>
                <a:lnTo>
                  <a:pt x="3684" y="254"/>
                </a:lnTo>
                <a:lnTo>
                  <a:pt x="3700" y="256"/>
                </a:lnTo>
                <a:lnTo>
                  <a:pt x="3717" y="257"/>
                </a:lnTo>
                <a:lnTo>
                  <a:pt x="3717" y="257"/>
                </a:lnTo>
                <a:lnTo>
                  <a:pt x="3733" y="256"/>
                </a:lnTo>
                <a:lnTo>
                  <a:pt x="3751" y="254"/>
                </a:lnTo>
                <a:lnTo>
                  <a:pt x="3766" y="252"/>
                </a:lnTo>
                <a:lnTo>
                  <a:pt x="3781" y="249"/>
                </a:lnTo>
                <a:lnTo>
                  <a:pt x="3795" y="244"/>
                </a:lnTo>
                <a:lnTo>
                  <a:pt x="3809" y="239"/>
                </a:lnTo>
                <a:lnTo>
                  <a:pt x="3822" y="233"/>
                </a:lnTo>
                <a:lnTo>
                  <a:pt x="3833" y="226"/>
                </a:lnTo>
                <a:lnTo>
                  <a:pt x="3844" y="220"/>
                </a:lnTo>
                <a:lnTo>
                  <a:pt x="3853" y="212"/>
                </a:lnTo>
                <a:lnTo>
                  <a:pt x="3861" y="204"/>
                </a:lnTo>
                <a:lnTo>
                  <a:pt x="3869" y="196"/>
                </a:lnTo>
                <a:lnTo>
                  <a:pt x="3874" y="188"/>
                </a:lnTo>
                <a:lnTo>
                  <a:pt x="3878" y="178"/>
                </a:lnTo>
                <a:lnTo>
                  <a:pt x="3880" y="168"/>
                </a:lnTo>
                <a:lnTo>
                  <a:pt x="3882" y="159"/>
                </a:lnTo>
                <a:lnTo>
                  <a:pt x="3882" y="159"/>
                </a:lnTo>
                <a:lnTo>
                  <a:pt x="3880" y="146"/>
                </a:lnTo>
                <a:lnTo>
                  <a:pt x="3874" y="134"/>
                </a:lnTo>
                <a:lnTo>
                  <a:pt x="3866" y="121"/>
                </a:lnTo>
                <a:lnTo>
                  <a:pt x="3856" y="110"/>
                </a:lnTo>
                <a:lnTo>
                  <a:pt x="3842" y="100"/>
                </a:lnTo>
                <a:lnTo>
                  <a:pt x="3828" y="91"/>
                </a:lnTo>
                <a:lnTo>
                  <a:pt x="3811" y="81"/>
                </a:lnTo>
                <a:lnTo>
                  <a:pt x="3793" y="73"/>
                </a:lnTo>
                <a:lnTo>
                  <a:pt x="3793" y="73"/>
                </a:lnTo>
                <a:lnTo>
                  <a:pt x="3799" y="65"/>
                </a:lnTo>
                <a:lnTo>
                  <a:pt x="3807" y="57"/>
                </a:lnTo>
                <a:lnTo>
                  <a:pt x="3818" y="49"/>
                </a:lnTo>
                <a:lnTo>
                  <a:pt x="3829" y="44"/>
                </a:lnTo>
                <a:lnTo>
                  <a:pt x="3841" y="39"/>
                </a:lnTo>
                <a:lnTo>
                  <a:pt x="3855" y="36"/>
                </a:lnTo>
                <a:lnTo>
                  <a:pt x="3869" y="32"/>
                </a:lnTo>
                <a:lnTo>
                  <a:pt x="3883" y="32"/>
                </a:lnTo>
                <a:lnTo>
                  <a:pt x="3883" y="32"/>
                </a:lnTo>
                <a:lnTo>
                  <a:pt x="3901" y="32"/>
                </a:lnTo>
                <a:lnTo>
                  <a:pt x="3916" y="36"/>
                </a:lnTo>
                <a:lnTo>
                  <a:pt x="3931" y="40"/>
                </a:lnTo>
                <a:lnTo>
                  <a:pt x="3945" y="47"/>
                </a:lnTo>
                <a:lnTo>
                  <a:pt x="3956" y="55"/>
                </a:lnTo>
                <a:lnTo>
                  <a:pt x="3965" y="63"/>
                </a:lnTo>
                <a:lnTo>
                  <a:pt x="3973" y="71"/>
                </a:lnTo>
                <a:lnTo>
                  <a:pt x="3978" y="81"/>
                </a:lnTo>
                <a:lnTo>
                  <a:pt x="3978" y="81"/>
                </a:lnTo>
                <a:lnTo>
                  <a:pt x="3984" y="73"/>
                </a:lnTo>
                <a:lnTo>
                  <a:pt x="3990" y="66"/>
                </a:lnTo>
                <a:lnTo>
                  <a:pt x="3998" y="58"/>
                </a:lnTo>
                <a:lnTo>
                  <a:pt x="4006" y="52"/>
                </a:lnTo>
                <a:lnTo>
                  <a:pt x="4014" y="45"/>
                </a:lnTo>
                <a:lnTo>
                  <a:pt x="4024" y="39"/>
                </a:lnTo>
                <a:lnTo>
                  <a:pt x="4033" y="34"/>
                </a:lnTo>
                <a:lnTo>
                  <a:pt x="4043" y="27"/>
                </a:lnTo>
                <a:lnTo>
                  <a:pt x="4052" y="24"/>
                </a:lnTo>
                <a:lnTo>
                  <a:pt x="4062" y="19"/>
                </a:lnTo>
                <a:lnTo>
                  <a:pt x="4073" y="16"/>
                </a:lnTo>
                <a:lnTo>
                  <a:pt x="4082" y="15"/>
                </a:lnTo>
                <a:lnTo>
                  <a:pt x="4093" y="13"/>
                </a:lnTo>
                <a:lnTo>
                  <a:pt x="4104" y="11"/>
                </a:lnTo>
                <a:lnTo>
                  <a:pt x="4114" y="11"/>
                </a:lnTo>
                <a:lnTo>
                  <a:pt x="4125" y="13"/>
                </a:lnTo>
                <a:lnTo>
                  <a:pt x="4125" y="13"/>
                </a:lnTo>
                <a:lnTo>
                  <a:pt x="4134" y="15"/>
                </a:lnTo>
                <a:lnTo>
                  <a:pt x="4144" y="15"/>
                </a:lnTo>
                <a:lnTo>
                  <a:pt x="4153" y="16"/>
                </a:lnTo>
                <a:lnTo>
                  <a:pt x="4163" y="19"/>
                </a:lnTo>
                <a:lnTo>
                  <a:pt x="4172" y="21"/>
                </a:lnTo>
                <a:lnTo>
                  <a:pt x="4183" y="23"/>
                </a:lnTo>
                <a:lnTo>
                  <a:pt x="4191" y="26"/>
                </a:lnTo>
                <a:lnTo>
                  <a:pt x="4200" y="27"/>
                </a:lnTo>
                <a:lnTo>
                  <a:pt x="4200" y="27"/>
                </a:lnTo>
                <a:lnTo>
                  <a:pt x="4202" y="29"/>
                </a:lnTo>
                <a:lnTo>
                  <a:pt x="4207" y="31"/>
                </a:lnTo>
                <a:lnTo>
                  <a:pt x="4216" y="34"/>
                </a:lnTo>
                <a:lnTo>
                  <a:pt x="4227" y="39"/>
                </a:lnTo>
                <a:lnTo>
                  <a:pt x="4241" y="45"/>
                </a:lnTo>
                <a:lnTo>
                  <a:pt x="4259" y="52"/>
                </a:lnTo>
                <a:lnTo>
                  <a:pt x="4278" y="60"/>
                </a:lnTo>
                <a:lnTo>
                  <a:pt x="4300" y="70"/>
                </a:lnTo>
                <a:lnTo>
                  <a:pt x="4324" y="79"/>
                </a:lnTo>
                <a:lnTo>
                  <a:pt x="4349" y="89"/>
                </a:lnTo>
                <a:lnTo>
                  <a:pt x="4377" y="100"/>
                </a:lnTo>
                <a:lnTo>
                  <a:pt x="4406" y="112"/>
                </a:lnTo>
                <a:lnTo>
                  <a:pt x="4437" y="123"/>
                </a:lnTo>
                <a:lnTo>
                  <a:pt x="4469" y="136"/>
                </a:lnTo>
                <a:lnTo>
                  <a:pt x="4500" y="149"/>
                </a:lnTo>
                <a:lnTo>
                  <a:pt x="4533" y="160"/>
                </a:lnTo>
                <a:lnTo>
                  <a:pt x="4568" y="173"/>
                </a:lnTo>
                <a:lnTo>
                  <a:pt x="4601" y="186"/>
                </a:lnTo>
                <a:lnTo>
                  <a:pt x="4636" y="197"/>
                </a:lnTo>
                <a:lnTo>
                  <a:pt x="4671" y="210"/>
                </a:lnTo>
                <a:lnTo>
                  <a:pt x="4706" y="222"/>
                </a:lnTo>
                <a:lnTo>
                  <a:pt x="4740" y="233"/>
                </a:lnTo>
                <a:lnTo>
                  <a:pt x="4773" y="243"/>
                </a:lnTo>
                <a:lnTo>
                  <a:pt x="4807" y="252"/>
                </a:lnTo>
                <a:lnTo>
                  <a:pt x="4838" y="262"/>
                </a:lnTo>
                <a:lnTo>
                  <a:pt x="4870" y="270"/>
                </a:lnTo>
                <a:lnTo>
                  <a:pt x="4900" y="277"/>
                </a:lnTo>
                <a:lnTo>
                  <a:pt x="4928" y="283"/>
                </a:lnTo>
                <a:lnTo>
                  <a:pt x="4955" y="288"/>
                </a:lnTo>
                <a:lnTo>
                  <a:pt x="4980" y="291"/>
                </a:lnTo>
                <a:lnTo>
                  <a:pt x="5004" y="294"/>
                </a:lnTo>
                <a:lnTo>
                  <a:pt x="5024" y="294"/>
                </a:lnTo>
                <a:lnTo>
                  <a:pt x="5024" y="294"/>
                </a:lnTo>
                <a:lnTo>
                  <a:pt x="5045" y="294"/>
                </a:lnTo>
                <a:lnTo>
                  <a:pt x="5065" y="293"/>
                </a:lnTo>
                <a:lnTo>
                  <a:pt x="5084" y="290"/>
                </a:lnTo>
                <a:lnTo>
                  <a:pt x="5102" y="286"/>
                </a:lnTo>
                <a:lnTo>
                  <a:pt x="5119" y="281"/>
                </a:lnTo>
                <a:lnTo>
                  <a:pt x="5136" y="275"/>
                </a:lnTo>
                <a:lnTo>
                  <a:pt x="5151" y="268"/>
                </a:lnTo>
                <a:lnTo>
                  <a:pt x="5165" y="260"/>
                </a:lnTo>
                <a:lnTo>
                  <a:pt x="5178" y="252"/>
                </a:lnTo>
                <a:lnTo>
                  <a:pt x="5190" y="243"/>
                </a:lnTo>
                <a:lnTo>
                  <a:pt x="5200" y="233"/>
                </a:lnTo>
                <a:lnTo>
                  <a:pt x="5208" y="223"/>
                </a:lnTo>
                <a:lnTo>
                  <a:pt x="5214" y="212"/>
                </a:lnTo>
                <a:lnTo>
                  <a:pt x="5219" y="201"/>
                </a:lnTo>
                <a:lnTo>
                  <a:pt x="5222" y="189"/>
                </a:lnTo>
                <a:lnTo>
                  <a:pt x="5223" y="176"/>
                </a:lnTo>
                <a:lnTo>
                  <a:pt x="5223" y="176"/>
                </a:lnTo>
                <a:lnTo>
                  <a:pt x="5222" y="165"/>
                </a:lnTo>
                <a:lnTo>
                  <a:pt x="5219" y="154"/>
                </a:lnTo>
                <a:lnTo>
                  <a:pt x="5214" y="142"/>
                </a:lnTo>
                <a:lnTo>
                  <a:pt x="5208" y="131"/>
                </a:lnTo>
                <a:lnTo>
                  <a:pt x="5198" y="121"/>
                </a:lnTo>
                <a:lnTo>
                  <a:pt x="5189" y="112"/>
                </a:lnTo>
                <a:lnTo>
                  <a:pt x="5178" y="104"/>
                </a:lnTo>
                <a:lnTo>
                  <a:pt x="5165" y="97"/>
                </a:lnTo>
                <a:lnTo>
                  <a:pt x="5165" y="97"/>
                </a:lnTo>
                <a:lnTo>
                  <a:pt x="5178" y="92"/>
                </a:lnTo>
                <a:lnTo>
                  <a:pt x="5190" y="87"/>
                </a:lnTo>
                <a:lnTo>
                  <a:pt x="5204" y="84"/>
                </a:lnTo>
                <a:lnTo>
                  <a:pt x="5219" y="79"/>
                </a:lnTo>
                <a:lnTo>
                  <a:pt x="5233" y="76"/>
                </a:lnTo>
                <a:lnTo>
                  <a:pt x="5247" y="74"/>
                </a:lnTo>
                <a:lnTo>
                  <a:pt x="5263" y="73"/>
                </a:lnTo>
                <a:lnTo>
                  <a:pt x="5277" y="71"/>
                </a:lnTo>
                <a:lnTo>
                  <a:pt x="5277" y="71"/>
                </a:lnTo>
                <a:lnTo>
                  <a:pt x="5288" y="71"/>
                </a:lnTo>
                <a:lnTo>
                  <a:pt x="5297" y="71"/>
                </a:lnTo>
                <a:lnTo>
                  <a:pt x="5307" y="73"/>
                </a:lnTo>
                <a:lnTo>
                  <a:pt x="5316" y="74"/>
                </a:lnTo>
                <a:lnTo>
                  <a:pt x="5326" y="76"/>
                </a:lnTo>
                <a:lnTo>
                  <a:pt x="5335" y="78"/>
                </a:lnTo>
                <a:lnTo>
                  <a:pt x="5345" y="79"/>
                </a:lnTo>
                <a:lnTo>
                  <a:pt x="5354" y="82"/>
                </a:lnTo>
                <a:lnTo>
                  <a:pt x="5364" y="86"/>
                </a:lnTo>
                <a:lnTo>
                  <a:pt x="5372" y="89"/>
                </a:lnTo>
                <a:lnTo>
                  <a:pt x="5380" y="92"/>
                </a:lnTo>
                <a:lnTo>
                  <a:pt x="5387" y="97"/>
                </a:lnTo>
                <a:lnTo>
                  <a:pt x="5395" y="100"/>
                </a:lnTo>
                <a:lnTo>
                  <a:pt x="5403" y="105"/>
                </a:lnTo>
                <a:lnTo>
                  <a:pt x="5410" y="110"/>
                </a:lnTo>
                <a:lnTo>
                  <a:pt x="5416" y="115"/>
                </a:lnTo>
                <a:lnTo>
                  <a:pt x="5416" y="115"/>
                </a:lnTo>
                <a:lnTo>
                  <a:pt x="5414" y="121"/>
                </a:lnTo>
                <a:lnTo>
                  <a:pt x="5413" y="126"/>
                </a:lnTo>
                <a:lnTo>
                  <a:pt x="5411" y="131"/>
                </a:lnTo>
                <a:lnTo>
                  <a:pt x="5411" y="136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22400" y="411120"/>
            <a:ext cx="8893080" cy="6024600"/>
          </a:xfrm>
          <a:prstGeom prst="rect">
            <a:avLst/>
          </a:prstGeom>
          <a:noFill/>
          <a:ln w="0">
            <a:solidFill>
              <a:srgbClr val="9900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WordArt 8" descr=""/>
          <p:cNvPicPr/>
          <p:nvPr/>
        </p:nvPicPr>
        <p:blipFill>
          <a:blip r:embed="rId1"/>
          <a:stretch/>
        </p:blipFill>
        <p:spPr>
          <a:xfrm>
            <a:off x="534960" y="760320"/>
            <a:ext cx="1306440" cy="46371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0"/>
          <p:cNvSpPr/>
          <p:nvPr/>
        </p:nvSpPr>
        <p:spPr>
          <a:xfrm>
            <a:off x="2340000" y="549360"/>
            <a:ext cx="64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设喻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----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设置或借用一个寓言、故事或自然现象来说明一个抽象的道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1"/>
          <p:cNvSpPr/>
          <p:nvPr/>
        </p:nvSpPr>
        <p:spPr>
          <a:xfrm>
            <a:off x="2268360" y="2349360"/>
            <a:ext cx="60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方式一：设置一个故事来说明一个道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2"/>
          <p:cNvSpPr/>
          <p:nvPr/>
        </p:nvSpPr>
        <p:spPr>
          <a:xfrm>
            <a:off x="2268360" y="357336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方式二：借用乙事物比方甲事物来说明一个二者共同蕴涵的道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reeform 2"/>
          <p:cNvSpPr/>
          <p:nvPr/>
        </p:nvSpPr>
        <p:spPr>
          <a:xfrm>
            <a:off x="0" y="0"/>
            <a:ext cx="9144000" cy="301680"/>
          </a:xfrm>
          <a:custGeom>
            <a:avLst/>
            <a:gdLst/>
            <a:ahLst/>
            <a:rect l="l" t="t" r="r" b="b"/>
            <a:pathLst>
              <a:path w="5760" h="380">
                <a:moveTo>
                  <a:pt x="5411" y="136"/>
                </a:moveTo>
                <a:lnTo>
                  <a:pt x="5411" y="136"/>
                </a:lnTo>
                <a:lnTo>
                  <a:pt x="5410" y="160"/>
                </a:lnTo>
                <a:lnTo>
                  <a:pt x="5411" y="181"/>
                </a:lnTo>
                <a:lnTo>
                  <a:pt x="5416" y="201"/>
                </a:lnTo>
                <a:lnTo>
                  <a:pt x="5425" y="217"/>
                </a:lnTo>
                <a:lnTo>
                  <a:pt x="5438" y="231"/>
                </a:lnTo>
                <a:lnTo>
                  <a:pt x="5454" y="243"/>
                </a:lnTo>
                <a:lnTo>
                  <a:pt x="5473" y="251"/>
                </a:lnTo>
                <a:lnTo>
                  <a:pt x="5495" y="256"/>
                </a:lnTo>
                <a:lnTo>
                  <a:pt x="5495" y="256"/>
                </a:lnTo>
                <a:lnTo>
                  <a:pt x="5515" y="254"/>
                </a:lnTo>
                <a:lnTo>
                  <a:pt x="5533" y="246"/>
                </a:lnTo>
                <a:lnTo>
                  <a:pt x="5548" y="236"/>
                </a:lnTo>
                <a:lnTo>
                  <a:pt x="5561" y="222"/>
                </a:lnTo>
                <a:lnTo>
                  <a:pt x="5569" y="205"/>
                </a:lnTo>
                <a:lnTo>
                  <a:pt x="5572" y="186"/>
                </a:lnTo>
                <a:lnTo>
                  <a:pt x="5571" y="167"/>
                </a:lnTo>
                <a:lnTo>
                  <a:pt x="5563" y="147"/>
                </a:lnTo>
                <a:lnTo>
                  <a:pt x="5563" y="147"/>
                </a:lnTo>
                <a:lnTo>
                  <a:pt x="5553" y="137"/>
                </a:lnTo>
                <a:lnTo>
                  <a:pt x="5544" y="129"/>
                </a:lnTo>
                <a:lnTo>
                  <a:pt x="5534" y="125"/>
                </a:lnTo>
                <a:lnTo>
                  <a:pt x="5523" y="123"/>
                </a:lnTo>
                <a:lnTo>
                  <a:pt x="5514" y="123"/>
                </a:lnTo>
                <a:lnTo>
                  <a:pt x="5503" y="126"/>
                </a:lnTo>
                <a:lnTo>
                  <a:pt x="5493" y="133"/>
                </a:lnTo>
                <a:lnTo>
                  <a:pt x="5484" y="142"/>
                </a:lnTo>
                <a:lnTo>
                  <a:pt x="5484" y="142"/>
                </a:lnTo>
                <a:lnTo>
                  <a:pt x="5479" y="150"/>
                </a:lnTo>
                <a:lnTo>
                  <a:pt x="5477" y="160"/>
                </a:lnTo>
                <a:lnTo>
                  <a:pt x="5477" y="168"/>
                </a:lnTo>
                <a:lnTo>
                  <a:pt x="5477" y="175"/>
                </a:lnTo>
                <a:lnTo>
                  <a:pt x="5479" y="183"/>
                </a:lnTo>
                <a:lnTo>
                  <a:pt x="5482" y="191"/>
                </a:lnTo>
                <a:lnTo>
                  <a:pt x="5485" y="199"/>
                </a:lnTo>
                <a:lnTo>
                  <a:pt x="5487" y="207"/>
                </a:lnTo>
                <a:lnTo>
                  <a:pt x="5487" y="207"/>
                </a:lnTo>
                <a:lnTo>
                  <a:pt x="5493" y="213"/>
                </a:lnTo>
                <a:lnTo>
                  <a:pt x="5498" y="215"/>
                </a:lnTo>
                <a:lnTo>
                  <a:pt x="5501" y="213"/>
                </a:lnTo>
                <a:lnTo>
                  <a:pt x="5504" y="210"/>
                </a:lnTo>
                <a:lnTo>
                  <a:pt x="5506" y="207"/>
                </a:lnTo>
                <a:lnTo>
                  <a:pt x="5506" y="202"/>
                </a:lnTo>
                <a:lnTo>
                  <a:pt x="5501" y="199"/>
                </a:lnTo>
                <a:lnTo>
                  <a:pt x="5496" y="197"/>
                </a:lnTo>
                <a:lnTo>
                  <a:pt x="5496" y="197"/>
                </a:lnTo>
                <a:lnTo>
                  <a:pt x="5488" y="180"/>
                </a:lnTo>
                <a:lnTo>
                  <a:pt x="5487" y="163"/>
                </a:lnTo>
                <a:lnTo>
                  <a:pt x="5492" y="149"/>
                </a:lnTo>
                <a:lnTo>
                  <a:pt x="5500" y="139"/>
                </a:lnTo>
                <a:lnTo>
                  <a:pt x="5512" y="134"/>
                </a:lnTo>
                <a:lnTo>
                  <a:pt x="5526" y="134"/>
                </a:lnTo>
                <a:lnTo>
                  <a:pt x="5541" y="139"/>
                </a:lnTo>
                <a:lnTo>
                  <a:pt x="5555" y="154"/>
                </a:lnTo>
                <a:lnTo>
                  <a:pt x="5555" y="154"/>
                </a:lnTo>
                <a:lnTo>
                  <a:pt x="5560" y="165"/>
                </a:lnTo>
                <a:lnTo>
                  <a:pt x="5561" y="176"/>
                </a:lnTo>
                <a:lnTo>
                  <a:pt x="5563" y="188"/>
                </a:lnTo>
                <a:lnTo>
                  <a:pt x="5561" y="197"/>
                </a:lnTo>
                <a:lnTo>
                  <a:pt x="5558" y="207"/>
                </a:lnTo>
                <a:lnTo>
                  <a:pt x="5553" y="217"/>
                </a:lnTo>
                <a:lnTo>
                  <a:pt x="5547" y="223"/>
                </a:lnTo>
                <a:lnTo>
                  <a:pt x="5539" y="230"/>
                </a:lnTo>
                <a:lnTo>
                  <a:pt x="5531" y="236"/>
                </a:lnTo>
                <a:lnTo>
                  <a:pt x="5522" y="239"/>
                </a:lnTo>
                <a:lnTo>
                  <a:pt x="5512" y="243"/>
                </a:lnTo>
                <a:lnTo>
                  <a:pt x="5501" y="244"/>
                </a:lnTo>
                <a:lnTo>
                  <a:pt x="5490" y="244"/>
                </a:lnTo>
                <a:lnTo>
                  <a:pt x="5479" y="243"/>
                </a:lnTo>
                <a:lnTo>
                  <a:pt x="5468" y="239"/>
                </a:lnTo>
                <a:lnTo>
                  <a:pt x="5459" y="235"/>
                </a:lnTo>
                <a:lnTo>
                  <a:pt x="5459" y="235"/>
                </a:lnTo>
                <a:lnTo>
                  <a:pt x="5444" y="225"/>
                </a:lnTo>
                <a:lnTo>
                  <a:pt x="5435" y="215"/>
                </a:lnTo>
                <a:lnTo>
                  <a:pt x="5427" y="202"/>
                </a:lnTo>
                <a:lnTo>
                  <a:pt x="5422" y="188"/>
                </a:lnTo>
                <a:lnTo>
                  <a:pt x="5419" y="173"/>
                </a:lnTo>
                <a:lnTo>
                  <a:pt x="5419" y="157"/>
                </a:lnTo>
                <a:lnTo>
                  <a:pt x="5421" y="142"/>
                </a:lnTo>
                <a:lnTo>
                  <a:pt x="5424" y="126"/>
                </a:lnTo>
                <a:lnTo>
                  <a:pt x="5425" y="123"/>
                </a:lnTo>
                <a:lnTo>
                  <a:pt x="5429" y="118"/>
                </a:lnTo>
                <a:lnTo>
                  <a:pt x="5427" y="118"/>
                </a:lnTo>
                <a:lnTo>
                  <a:pt x="5427" y="118"/>
                </a:lnTo>
                <a:lnTo>
                  <a:pt x="5432" y="113"/>
                </a:lnTo>
                <a:lnTo>
                  <a:pt x="5438" y="105"/>
                </a:lnTo>
                <a:lnTo>
                  <a:pt x="5447" y="99"/>
                </a:lnTo>
                <a:lnTo>
                  <a:pt x="5460" y="91"/>
                </a:lnTo>
                <a:lnTo>
                  <a:pt x="5476" y="84"/>
                </a:lnTo>
                <a:lnTo>
                  <a:pt x="5495" y="78"/>
                </a:lnTo>
                <a:lnTo>
                  <a:pt x="5518" y="74"/>
                </a:lnTo>
                <a:lnTo>
                  <a:pt x="5545" y="74"/>
                </a:lnTo>
                <a:lnTo>
                  <a:pt x="5545" y="74"/>
                </a:lnTo>
                <a:lnTo>
                  <a:pt x="5564" y="76"/>
                </a:lnTo>
                <a:lnTo>
                  <a:pt x="5582" y="82"/>
                </a:lnTo>
                <a:lnTo>
                  <a:pt x="5599" y="91"/>
                </a:lnTo>
                <a:lnTo>
                  <a:pt x="5616" y="102"/>
                </a:lnTo>
                <a:lnTo>
                  <a:pt x="5634" y="115"/>
                </a:lnTo>
                <a:lnTo>
                  <a:pt x="5650" y="129"/>
                </a:lnTo>
                <a:lnTo>
                  <a:pt x="5665" y="146"/>
                </a:lnTo>
                <a:lnTo>
                  <a:pt x="5679" y="162"/>
                </a:lnTo>
                <a:lnTo>
                  <a:pt x="5692" y="180"/>
                </a:lnTo>
                <a:lnTo>
                  <a:pt x="5705" y="196"/>
                </a:lnTo>
                <a:lnTo>
                  <a:pt x="5716" y="212"/>
                </a:lnTo>
                <a:lnTo>
                  <a:pt x="5725" y="228"/>
                </a:lnTo>
                <a:lnTo>
                  <a:pt x="5733" y="241"/>
                </a:lnTo>
                <a:lnTo>
                  <a:pt x="5739" y="252"/>
                </a:lnTo>
                <a:lnTo>
                  <a:pt x="5744" y="262"/>
                </a:lnTo>
                <a:lnTo>
                  <a:pt x="5746" y="270"/>
                </a:lnTo>
                <a:lnTo>
                  <a:pt x="5746" y="270"/>
                </a:lnTo>
                <a:lnTo>
                  <a:pt x="5749" y="275"/>
                </a:lnTo>
                <a:lnTo>
                  <a:pt x="5752" y="283"/>
                </a:lnTo>
                <a:lnTo>
                  <a:pt x="5755" y="291"/>
                </a:lnTo>
                <a:lnTo>
                  <a:pt x="5758" y="299"/>
                </a:lnTo>
                <a:lnTo>
                  <a:pt x="5760" y="307"/>
                </a:lnTo>
                <a:lnTo>
                  <a:pt x="5760" y="317"/>
                </a:lnTo>
                <a:lnTo>
                  <a:pt x="5758" y="327"/>
                </a:lnTo>
                <a:lnTo>
                  <a:pt x="5754" y="335"/>
                </a:lnTo>
                <a:lnTo>
                  <a:pt x="5746" y="345"/>
                </a:lnTo>
                <a:lnTo>
                  <a:pt x="5736" y="353"/>
                </a:lnTo>
                <a:lnTo>
                  <a:pt x="5721" y="361"/>
                </a:lnTo>
                <a:lnTo>
                  <a:pt x="5700" y="367"/>
                </a:lnTo>
                <a:lnTo>
                  <a:pt x="5675" y="372"/>
                </a:lnTo>
                <a:lnTo>
                  <a:pt x="5643" y="377"/>
                </a:lnTo>
                <a:lnTo>
                  <a:pt x="5607" y="378"/>
                </a:lnTo>
                <a:lnTo>
                  <a:pt x="5561" y="380"/>
                </a:lnTo>
                <a:lnTo>
                  <a:pt x="5561" y="380"/>
                </a:lnTo>
                <a:lnTo>
                  <a:pt x="5533" y="380"/>
                </a:lnTo>
                <a:lnTo>
                  <a:pt x="5493" y="380"/>
                </a:lnTo>
                <a:lnTo>
                  <a:pt x="5444" y="380"/>
                </a:lnTo>
                <a:lnTo>
                  <a:pt x="5386" y="380"/>
                </a:lnTo>
                <a:lnTo>
                  <a:pt x="5318" y="380"/>
                </a:lnTo>
                <a:lnTo>
                  <a:pt x="5242" y="380"/>
                </a:lnTo>
                <a:lnTo>
                  <a:pt x="5160" y="380"/>
                </a:lnTo>
                <a:lnTo>
                  <a:pt x="5072" y="380"/>
                </a:lnTo>
                <a:lnTo>
                  <a:pt x="4977" y="380"/>
                </a:lnTo>
                <a:lnTo>
                  <a:pt x="4878" y="380"/>
                </a:lnTo>
                <a:lnTo>
                  <a:pt x="4773" y="380"/>
                </a:lnTo>
                <a:lnTo>
                  <a:pt x="4666" y="380"/>
                </a:lnTo>
                <a:lnTo>
                  <a:pt x="4557" y="380"/>
                </a:lnTo>
                <a:lnTo>
                  <a:pt x="4445" y="380"/>
                </a:lnTo>
                <a:lnTo>
                  <a:pt x="4331" y="380"/>
                </a:lnTo>
                <a:lnTo>
                  <a:pt x="4218" y="380"/>
                </a:lnTo>
                <a:lnTo>
                  <a:pt x="4103" y="380"/>
                </a:lnTo>
                <a:lnTo>
                  <a:pt x="3989" y="380"/>
                </a:lnTo>
                <a:lnTo>
                  <a:pt x="3878" y="380"/>
                </a:lnTo>
                <a:lnTo>
                  <a:pt x="3768" y="380"/>
                </a:lnTo>
                <a:lnTo>
                  <a:pt x="3661" y="380"/>
                </a:lnTo>
                <a:lnTo>
                  <a:pt x="3558" y="380"/>
                </a:lnTo>
                <a:lnTo>
                  <a:pt x="3460" y="380"/>
                </a:lnTo>
                <a:lnTo>
                  <a:pt x="3367" y="380"/>
                </a:lnTo>
                <a:lnTo>
                  <a:pt x="3279" y="380"/>
                </a:lnTo>
                <a:lnTo>
                  <a:pt x="3198" y="380"/>
                </a:lnTo>
                <a:lnTo>
                  <a:pt x="3124" y="380"/>
                </a:lnTo>
                <a:lnTo>
                  <a:pt x="3058" y="380"/>
                </a:lnTo>
                <a:lnTo>
                  <a:pt x="3001" y="380"/>
                </a:lnTo>
                <a:lnTo>
                  <a:pt x="2953" y="380"/>
                </a:lnTo>
                <a:lnTo>
                  <a:pt x="2916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2" y="380"/>
                </a:lnTo>
                <a:lnTo>
                  <a:pt x="2862" y="380"/>
                </a:lnTo>
                <a:lnTo>
                  <a:pt x="2829" y="380"/>
                </a:lnTo>
                <a:lnTo>
                  <a:pt x="2784" y="380"/>
                </a:lnTo>
                <a:lnTo>
                  <a:pt x="2728" y="380"/>
                </a:lnTo>
                <a:lnTo>
                  <a:pt x="2663" y="380"/>
                </a:lnTo>
                <a:lnTo>
                  <a:pt x="2587" y="380"/>
                </a:lnTo>
                <a:lnTo>
                  <a:pt x="2505" y="380"/>
                </a:lnTo>
                <a:lnTo>
                  <a:pt x="2414" y="380"/>
                </a:lnTo>
                <a:lnTo>
                  <a:pt x="2317" y="380"/>
                </a:lnTo>
                <a:lnTo>
                  <a:pt x="2215" y="380"/>
                </a:lnTo>
                <a:lnTo>
                  <a:pt x="2106" y="380"/>
                </a:lnTo>
                <a:lnTo>
                  <a:pt x="1994" y="380"/>
                </a:lnTo>
                <a:lnTo>
                  <a:pt x="1878" y="380"/>
                </a:lnTo>
                <a:lnTo>
                  <a:pt x="1760" y="380"/>
                </a:lnTo>
                <a:lnTo>
                  <a:pt x="1640" y="380"/>
                </a:lnTo>
                <a:lnTo>
                  <a:pt x="1520" y="380"/>
                </a:lnTo>
                <a:lnTo>
                  <a:pt x="1400" y="380"/>
                </a:lnTo>
                <a:lnTo>
                  <a:pt x="1280" y="380"/>
                </a:lnTo>
                <a:lnTo>
                  <a:pt x="1163" y="380"/>
                </a:lnTo>
                <a:lnTo>
                  <a:pt x="1048" y="380"/>
                </a:lnTo>
                <a:lnTo>
                  <a:pt x="938" y="380"/>
                </a:lnTo>
                <a:lnTo>
                  <a:pt x="830" y="380"/>
                </a:lnTo>
                <a:lnTo>
                  <a:pt x="728" y="380"/>
                </a:lnTo>
                <a:lnTo>
                  <a:pt x="631" y="380"/>
                </a:lnTo>
                <a:lnTo>
                  <a:pt x="543" y="380"/>
                </a:lnTo>
                <a:lnTo>
                  <a:pt x="461" y="380"/>
                </a:lnTo>
                <a:lnTo>
                  <a:pt x="388" y="380"/>
                </a:lnTo>
                <a:lnTo>
                  <a:pt x="324" y="380"/>
                </a:lnTo>
                <a:lnTo>
                  <a:pt x="270" y="380"/>
                </a:lnTo>
                <a:lnTo>
                  <a:pt x="229" y="380"/>
                </a:lnTo>
                <a:lnTo>
                  <a:pt x="197" y="380"/>
                </a:lnTo>
                <a:lnTo>
                  <a:pt x="197" y="380"/>
                </a:lnTo>
                <a:lnTo>
                  <a:pt x="153" y="378"/>
                </a:lnTo>
                <a:lnTo>
                  <a:pt x="115" y="377"/>
                </a:lnTo>
                <a:lnTo>
                  <a:pt x="84" y="372"/>
                </a:lnTo>
                <a:lnTo>
                  <a:pt x="58" y="367"/>
                </a:lnTo>
                <a:lnTo>
                  <a:pt x="38" y="361"/>
                </a:lnTo>
                <a:lnTo>
                  <a:pt x="22" y="353"/>
                </a:lnTo>
                <a:lnTo>
                  <a:pt x="11" y="345"/>
                </a:lnTo>
                <a:lnTo>
                  <a:pt x="5" y="335"/>
                </a:lnTo>
                <a:lnTo>
                  <a:pt x="2" y="327"/>
                </a:lnTo>
                <a:lnTo>
                  <a:pt x="0" y="317"/>
                </a:lnTo>
                <a:lnTo>
                  <a:pt x="0" y="307"/>
                </a:lnTo>
                <a:lnTo>
                  <a:pt x="2" y="299"/>
                </a:lnTo>
                <a:lnTo>
                  <a:pt x="3" y="291"/>
                </a:lnTo>
                <a:lnTo>
                  <a:pt x="6" y="283"/>
                </a:lnTo>
                <a:lnTo>
                  <a:pt x="9" y="275"/>
                </a:lnTo>
                <a:lnTo>
                  <a:pt x="11" y="270"/>
                </a:lnTo>
                <a:lnTo>
                  <a:pt x="11" y="270"/>
                </a:lnTo>
                <a:lnTo>
                  <a:pt x="14" y="262"/>
                </a:lnTo>
                <a:lnTo>
                  <a:pt x="19" y="252"/>
                </a:lnTo>
                <a:lnTo>
                  <a:pt x="25" y="241"/>
                </a:lnTo>
                <a:lnTo>
                  <a:pt x="33" y="228"/>
                </a:lnTo>
                <a:lnTo>
                  <a:pt x="43" y="212"/>
                </a:lnTo>
                <a:lnTo>
                  <a:pt x="54" y="196"/>
                </a:lnTo>
                <a:lnTo>
                  <a:pt x="66" y="180"/>
                </a:lnTo>
                <a:lnTo>
                  <a:pt x="79" y="162"/>
                </a:lnTo>
                <a:lnTo>
                  <a:pt x="93" y="146"/>
                </a:lnTo>
                <a:lnTo>
                  <a:pt x="109" y="131"/>
                </a:lnTo>
                <a:lnTo>
                  <a:pt x="125" y="115"/>
                </a:lnTo>
                <a:lnTo>
                  <a:pt x="142" y="102"/>
                </a:lnTo>
                <a:lnTo>
                  <a:pt x="159" y="92"/>
                </a:lnTo>
                <a:lnTo>
                  <a:pt x="177" y="82"/>
                </a:lnTo>
                <a:lnTo>
                  <a:pt x="196" y="78"/>
                </a:lnTo>
                <a:lnTo>
                  <a:pt x="213" y="74"/>
                </a:lnTo>
                <a:lnTo>
                  <a:pt x="213" y="74"/>
                </a:lnTo>
                <a:lnTo>
                  <a:pt x="242" y="76"/>
                </a:lnTo>
                <a:lnTo>
                  <a:pt x="264" y="79"/>
                </a:lnTo>
                <a:lnTo>
                  <a:pt x="283" y="84"/>
                </a:lnTo>
                <a:lnTo>
                  <a:pt x="298" y="91"/>
                </a:lnTo>
                <a:lnTo>
                  <a:pt x="311" y="99"/>
                </a:lnTo>
                <a:lnTo>
                  <a:pt x="320" y="107"/>
                </a:lnTo>
                <a:lnTo>
                  <a:pt x="327" y="113"/>
                </a:lnTo>
                <a:lnTo>
                  <a:pt x="331" y="118"/>
                </a:lnTo>
                <a:lnTo>
                  <a:pt x="330" y="120"/>
                </a:lnTo>
                <a:lnTo>
                  <a:pt x="333" y="125"/>
                </a:lnTo>
                <a:lnTo>
                  <a:pt x="335" y="128"/>
                </a:lnTo>
                <a:lnTo>
                  <a:pt x="335" y="128"/>
                </a:lnTo>
                <a:lnTo>
                  <a:pt x="338" y="142"/>
                </a:lnTo>
                <a:lnTo>
                  <a:pt x="339" y="159"/>
                </a:lnTo>
                <a:lnTo>
                  <a:pt x="339" y="173"/>
                </a:lnTo>
                <a:lnTo>
                  <a:pt x="336" y="189"/>
                </a:lnTo>
                <a:lnTo>
                  <a:pt x="331" y="202"/>
                </a:lnTo>
                <a:lnTo>
                  <a:pt x="325" y="215"/>
                </a:lnTo>
                <a:lnTo>
                  <a:pt x="314" y="226"/>
                </a:lnTo>
                <a:lnTo>
                  <a:pt x="301" y="235"/>
                </a:lnTo>
                <a:lnTo>
                  <a:pt x="301" y="235"/>
                </a:lnTo>
                <a:lnTo>
                  <a:pt x="290" y="239"/>
                </a:lnTo>
                <a:lnTo>
                  <a:pt x="279" y="243"/>
                </a:lnTo>
                <a:lnTo>
                  <a:pt x="268" y="244"/>
                </a:lnTo>
                <a:lnTo>
                  <a:pt x="259" y="244"/>
                </a:lnTo>
                <a:lnTo>
                  <a:pt x="248" y="244"/>
                </a:lnTo>
                <a:lnTo>
                  <a:pt x="238" y="241"/>
                </a:lnTo>
                <a:lnTo>
                  <a:pt x="229" y="236"/>
                </a:lnTo>
                <a:lnTo>
                  <a:pt x="219" y="231"/>
                </a:lnTo>
                <a:lnTo>
                  <a:pt x="213" y="225"/>
                </a:lnTo>
                <a:lnTo>
                  <a:pt x="207" y="217"/>
                </a:lnTo>
                <a:lnTo>
                  <a:pt x="202" y="207"/>
                </a:lnTo>
                <a:lnTo>
                  <a:pt x="199" y="199"/>
                </a:lnTo>
                <a:lnTo>
                  <a:pt x="197" y="188"/>
                </a:lnTo>
                <a:lnTo>
                  <a:pt x="197" y="176"/>
                </a:lnTo>
                <a:lnTo>
                  <a:pt x="200" y="165"/>
                </a:lnTo>
                <a:lnTo>
                  <a:pt x="205" y="154"/>
                </a:lnTo>
                <a:lnTo>
                  <a:pt x="205" y="154"/>
                </a:lnTo>
                <a:lnTo>
                  <a:pt x="219" y="141"/>
                </a:lnTo>
                <a:lnTo>
                  <a:pt x="234" y="134"/>
                </a:lnTo>
                <a:lnTo>
                  <a:pt x="248" y="134"/>
                </a:lnTo>
                <a:lnTo>
                  <a:pt x="259" y="141"/>
                </a:lnTo>
                <a:lnTo>
                  <a:pt x="268" y="150"/>
                </a:lnTo>
                <a:lnTo>
                  <a:pt x="272" y="163"/>
                </a:lnTo>
                <a:lnTo>
                  <a:pt x="270" y="180"/>
                </a:lnTo>
                <a:lnTo>
                  <a:pt x="262" y="197"/>
                </a:lnTo>
                <a:lnTo>
                  <a:pt x="262" y="197"/>
                </a:lnTo>
                <a:lnTo>
                  <a:pt x="257" y="199"/>
                </a:lnTo>
                <a:lnTo>
                  <a:pt x="254" y="202"/>
                </a:lnTo>
                <a:lnTo>
                  <a:pt x="253" y="207"/>
                </a:lnTo>
                <a:lnTo>
                  <a:pt x="254" y="210"/>
                </a:lnTo>
                <a:lnTo>
                  <a:pt x="257" y="213"/>
                </a:lnTo>
                <a:lnTo>
                  <a:pt x="260" y="215"/>
                </a:lnTo>
                <a:lnTo>
                  <a:pt x="265" y="213"/>
                </a:lnTo>
                <a:lnTo>
                  <a:pt x="272" y="207"/>
                </a:lnTo>
                <a:lnTo>
                  <a:pt x="272" y="207"/>
                </a:lnTo>
                <a:lnTo>
                  <a:pt x="273" y="199"/>
                </a:lnTo>
                <a:lnTo>
                  <a:pt x="276" y="191"/>
                </a:lnTo>
                <a:lnTo>
                  <a:pt x="279" y="183"/>
                </a:lnTo>
                <a:lnTo>
                  <a:pt x="281" y="175"/>
                </a:lnTo>
                <a:lnTo>
                  <a:pt x="281" y="168"/>
                </a:lnTo>
                <a:lnTo>
                  <a:pt x="281" y="160"/>
                </a:lnTo>
                <a:lnTo>
                  <a:pt x="279" y="152"/>
                </a:lnTo>
                <a:lnTo>
                  <a:pt x="275" y="142"/>
                </a:lnTo>
                <a:lnTo>
                  <a:pt x="275" y="142"/>
                </a:lnTo>
                <a:lnTo>
                  <a:pt x="265" y="133"/>
                </a:lnTo>
                <a:lnTo>
                  <a:pt x="256" y="128"/>
                </a:lnTo>
                <a:lnTo>
                  <a:pt x="246" y="125"/>
                </a:lnTo>
                <a:lnTo>
                  <a:pt x="235" y="125"/>
                </a:lnTo>
                <a:lnTo>
                  <a:pt x="226" y="126"/>
                </a:lnTo>
                <a:lnTo>
                  <a:pt x="216" y="131"/>
                </a:lnTo>
                <a:lnTo>
                  <a:pt x="207" y="137"/>
                </a:lnTo>
                <a:lnTo>
                  <a:pt x="197" y="147"/>
                </a:lnTo>
                <a:lnTo>
                  <a:pt x="197" y="147"/>
                </a:lnTo>
                <a:lnTo>
                  <a:pt x="189" y="168"/>
                </a:lnTo>
                <a:lnTo>
                  <a:pt x="188" y="188"/>
                </a:lnTo>
                <a:lnTo>
                  <a:pt x="191" y="205"/>
                </a:lnTo>
                <a:lnTo>
                  <a:pt x="199" y="222"/>
                </a:lnTo>
                <a:lnTo>
                  <a:pt x="210" y="236"/>
                </a:lnTo>
                <a:lnTo>
                  <a:pt x="226" y="246"/>
                </a:lnTo>
                <a:lnTo>
                  <a:pt x="245" y="254"/>
                </a:lnTo>
                <a:lnTo>
                  <a:pt x="265" y="256"/>
                </a:lnTo>
                <a:lnTo>
                  <a:pt x="265" y="256"/>
                </a:lnTo>
                <a:lnTo>
                  <a:pt x="287" y="251"/>
                </a:lnTo>
                <a:lnTo>
                  <a:pt x="306" y="243"/>
                </a:lnTo>
                <a:lnTo>
                  <a:pt x="322" y="231"/>
                </a:lnTo>
                <a:lnTo>
                  <a:pt x="335" y="218"/>
                </a:lnTo>
                <a:lnTo>
                  <a:pt x="343" y="201"/>
                </a:lnTo>
                <a:lnTo>
                  <a:pt x="349" y="183"/>
                </a:lnTo>
                <a:lnTo>
                  <a:pt x="350" y="160"/>
                </a:lnTo>
                <a:lnTo>
                  <a:pt x="349" y="136"/>
                </a:lnTo>
                <a:lnTo>
                  <a:pt x="349" y="136"/>
                </a:lnTo>
                <a:lnTo>
                  <a:pt x="347" y="131"/>
                </a:lnTo>
                <a:lnTo>
                  <a:pt x="346" y="126"/>
                </a:lnTo>
                <a:lnTo>
                  <a:pt x="344" y="121"/>
                </a:lnTo>
                <a:lnTo>
                  <a:pt x="343" y="116"/>
                </a:lnTo>
                <a:lnTo>
                  <a:pt x="343" y="116"/>
                </a:lnTo>
                <a:lnTo>
                  <a:pt x="349" y="112"/>
                </a:lnTo>
                <a:lnTo>
                  <a:pt x="355" y="107"/>
                </a:lnTo>
                <a:lnTo>
                  <a:pt x="363" y="102"/>
                </a:lnTo>
                <a:lnTo>
                  <a:pt x="371" y="97"/>
                </a:lnTo>
                <a:lnTo>
                  <a:pt x="379" y="92"/>
                </a:lnTo>
                <a:lnTo>
                  <a:pt x="387" y="89"/>
                </a:lnTo>
                <a:lnTo>
                  <a:pt x="396" y="86"/>
                </a:lnTo>
                <a:lnTo>
                  <a:pt x="404" y="82"/>
                </a:lnTo>
                <a:lnTo>
                  <a:pt x="414" y="79"/>
                </a:lnTo>
                <a:lnTo>
                  <a:pt x="423" y="78"/>
                </a:lnTo>
                <a:lnTo>
                  <a:pt x="433" y="76"/>
                </a:lnTo>
                <a:lnTo>
                  <a:pt x="442" y="74"/>
                </a:lnTo>
                <a:lnTo>
                  <a:pt x="451" y="73"/>
                </a:lnTo>
                <a:lnTo>
                  <a:pt x="463" y="71"/>
                </a:lnTo>
                <a:lnTo>
                  <a:pt x="472" y="71"/>
                </a:lnTo>
                <a:lnTo>
                  <a:pt x="481" y="71"/>
                </a:lnTo>
                <a:lnTo>
                  <a:pt x="481" y="71"/>
                </a:lnTo>
                <a:lnTo>
                  <a:pt x="497" y="73"/>
                </a:lnTo>
                <a:lnTo>
                  <a:pt x="511" y="74"/>
                </a:lnTo>
                <a:lnTo>
                  <a:pt x="526" y="76"/>
                </a:lnTo>
                <a:lnTo>
                  <a:pt x="541" y="79"/>
                </a:lnTo>
                <a:lnTo>
                  <a:pt x="554" y="84"/>
                </a:lnTo>
                <a:lnTo>
                  <a:pt x="568" y="87"/>
                </a:lnTo>
                <a:lnTo>
                  <a:pt x="581" y="92"/>
                </a:lnTo>
                <a:lnTo>
                  <a:pt x="594" y="97"/>
                </a:lnTo>
                <a:lnTo>
                  <a:pt x="594" y="97"/>
                </a:lnTo>
                <a:lnTo>
                  <a:pt x="581" y="104"/>
                </a:lnTo>
                <a:lnTo>
                  <a:pt x="570" y="113"/>
                </a:lnTo>
                <a:lnTo>
                  <a:pt x="560" y="121"/>
                </a:lnTo>
                <a:lnTo>
                  <a:pt x="552" y="133"/>
                </a:lnTo>
                <a:lnTo>
                  <a:pt x="545" y="142"/>
                </a:lnTo>
                <a:lnTo>
                  <a:pt x="540" y="154"/>
                </a:lnTo>
                <a:lnTo>
                  <a:pt x="537" y="165"/>
                </a:lnTo>
                <a:lnTo>
                  <a:pt x="537" y="178"/>
                </a:lnTo>
                <a:lnTo>
                  <a:pt x="537" y="178"/>
                </a:lnTo>
                <a:lnTo>
                  <a:pt x="537" y="189"/>
                </a:lnTo>
                <a:lnTo>
                  <a:pt x="540" y="201"/>
                </a:lnTo>
                <a:lnTo>
                  <a:pt x="545" y="212"/>
                </a:lnTo>
                <a:lnTo>
                  <a:pt x="551" y="223"/>
                </a:lnTo>
                <a:lnTo>
                  <a:pt x="560" y="233"/>
                </a:lnTo>
                <a:lnTo>
                  <a:pt x="570" y="243"/>
                </a:lnTo>
                <a:lnTo>
                  <a:pt x="581" y="252"/>
                </a:lnTo>
                <a:lnTo>
                  <a:pt x="594" y="260"/>
                </a:lnTo>
                <a:lnTo>
                  <a:pt x="608" y="268"/>
                </a:lnTo>
                <a:lnTo>
                  <a:pt x="622" y="275"/>
                </a:lnTo>
                <a:lnTo>
                  <a:pt x="639" y="281"/>
                </a:lnTo>
                <a:lnTo>
                  <a:pt x="657" y="286"/>
                </a:lnTo>
                <a:lnTo>
                  <a:pt x="674" y="290"/>
                </a:lnTo>
                <a:lnTo>
                  <a:pt x="693" y="293"/>
                </a:lnTo>
                <a:lnTo>
                  <a:pt x="713" y="294"/>
                </a:lnTo>
                <a:lnTo>
                  <a:pt x="734" y="296"/>
                </a:lnTo>
                <a:lnTo>
                  <a:pt x="734" y="296"/>
                </a:lnTo>
                <a:lnTo>
                  <a:pt x="755" y="294"/>
                </a:lnTo>
                <a:lnTo>
                  <a:pt x="778" y="293"/>
                </a:lnTo>
                <a:lnTo>
                  <a:pt x="803" y="290"/>
                </a:lnTo>
                <a:lnTo>
                  <a:pt x="830" y="285"/>
                </a:lnTo>
                <a:lnTo>
                  <a:pt x="859" y="278"/>
                </a:lnTo>
                <a:lnTo>
                  <a:pt x="889" y="270"/>
                </a:lnTo>
                <a:lnTo>
                  <a:pt x="920" y="262"/>
                </a:lnTo>
                <a:lnTo>
                  <a:pt x="952" y="254"/>
                </a:lnTo>
                <a:lnTo>
                  <a:pt x="985" y="244"/>
                </a:lnTo>
                <a:lnTo>
                  <a:pt x="1018" y="233"/>
                </a:lnTo>
                <a:lnTo>
                  <a:pt x="1053" y="222"/>
                </a:lnTo>
                <a:lnTo>
                  <a:pt x="1088" y="210"/>
                </a:lnTo>
                <a:lnTo>
                  <a:pt x="1122" y="199"/>
                </a:lnTo>
                <a:lnTo>
                  <a:pt x="1155" y="186"/>
                </a:lnTo>
                <a:lnTo>
                  <a:pt x="1190" y="173"/>
                </a:lnTo>
                <a:lnTo>
                  <a:pt x="1225" y="162"/>
                </a:lnTo>
                <a:lnTo>
                  <a:pt x="1258" y="149"/>
                </a:lnTo>
                <a:lnTo>
                  <a:pt x="1291" y="136"/>
                </a:lnTo>
                <a:lnTo>
                  <a:pt x="1323" y="125"/>
                </a:lnTo>
                <a:lnTo>
                  <a:pt x="1353" y="112"/>
                </a:lnTo>
                <a:lnTo>
                  <a:pt x="1381" y="100"/>
                </a:lnTo>
                <a:lnTo>
                  <a:pt x="1410" y="89"/>
                </a:lnTo>
                <a:lnTo>
                  <a:pt x="1435" y="79"/>
                </a:lnTo>
                <a:lnTo>
                  <a:pt x="1459" y="70"/>
                </a:lnTo>
                <a:lnTo>
                  <a:pt x="1481" y="60"/>
                </a:lnTo>
                <a:lnTo>
                  <a:pt x="1501" y="52"/>
                </a:lnTo>
                <a:lnTo>
                  <a:pt x="1517" y="45"/>
                </a:lnTo>
                <a:lnTo>
                  <a:pt x="1531" y="39"/>
                </a:lnTo>
                <a:lnTo>
                  <a:pt x="1544" y="34"/>
                </a:lnTo>
                <a:lnTo>
                  <a:pt x="1552" y="31"/>
                </a:lnTo>
                <a:lnTo>
                  <a:pt x="1558" y="29"/>
                </a:lnTo>
                <a:lnTo>
                  <a:pt x="1560" y="27"/>
                </a:lnTo>
                <a:lnTo>
                  <a:pt x="1560" y="27"/>
                </a:lnTo>
                <a:lnTo>
                  <a:pt x="1567" y="26"/>
                </a:lnTo>
                <a:lnTo>
                  <a:pt x="1577" y="23"/>
                </a:lnTo>
                <a:lnTo>
                  <a:pt x="1586" y="21"/>
                </a:lnTo>
                <a:lnTo>
                  <a:pt x="1596" y="19"/>
                </a:lnTo>
                <a:lnTo>
                  <a:pt x="1605" y="18"/>
                </a:lnTo>
                <a:lnTo>
                  <a:pt x="1616" y="16"/>
                </a:lnTo>
                <a:lnTo>
                  <a:pt x="1624" y="15"/>
                </a:lnTo>
                <a:lnTo>
                  <a:pt x="1634" y="13"/>
                </a:lnTo>
                <a:lnTo>
                  <a:pt x="1634" y="13"/>
                </a:lnTo>
                <a:lnTo>
                  <a:pt x="1645" y="13"/>
                </a:lnTo>
                <a:lnTo>
                  <a:pt x="1656" y="11"/>
                </a:lnTo>
                <a:lnTo>
                  <a:pt x="1665" y="13"/>
                </a:lnTo>
                <a:lnTo>
                  <a:pt x="1676" y="15"/>
                </a:lnTo>
                <a:lnTo>
                  <a:pt x="1687" y="16"/>
                </a:lnTo>
                <a:lnTo>
                  <a:pt x="1697" y="19"/>
                </a:lnTo>
                <a:lnTo>
                  <a:pt x="1708" y="24"/>
                </a:lnTo>
                <a:lnTo>
                  <a:pt x="1717" y="27"/>
                </a:lnTo>
                <a:lnTo>
                  <a:pt x="1727" y="34"/>
                </a:lnTo>
                <a:lnTo>
                  <a:pt x="1735" y="39"/>
                </a:lnTo>
                <a:lnTo>
                  <a:pt x="1744" y="45"/>
                </a:lnTo>
                <a:lnTo>
                  <a:pt x="1752" y="52"/>
                </a:lnTo>
                <a:lnTo>
                  <a:pt x="1760" y="60"/>
                </a:lnTo>
                <a:lnTo>
                  <a:pt x="1768" y="66"/>
                </a:lnTo>
                <a:lnTo>
                  <a:pt x="1774" y="74"/>
                </a:lnTo>
                <a:lnTo>
                  <a:pt x="1781" y="82"/>
                </a:lnTo>
                <a:lnTo>
                  <a:pt x="1781" y="82"/>
                </a:lnTo>
                <a:lnTo>
                  <a:pt x="1785" y="73"/>
                </a:lnTo>
                <a:lnTo>
                  <a:pt x="1793" y="63"/>
                </a:lnTo>
                <a:lnTo>
                  <a:pt x="1803" y="55"/>
                </a:lnTo>
                <a:lnTo>
                  <a:pt x="1814" y="47"/>
                </a:lnTo>
                <a:lnTo>
                  <a:pt x="1828" y="42"/>
                </a:lnTo>
                <a:lnTo>
                  <a:pt x="1842" y="37"/>
                </a:lnTo>
                <a:lnTo>
                  <a:pt x="1858" y="34"/>
                </a:lnTo>
                <a:lnTo>
                  <a:pt x="1875" y="32"/>
                </a:lnTo>
                <a:lnTo>
                  <a:pt x="1875" y="32"/>
                </a:lnTo>
                <a:lnTo>
                  <a:pt x="1889" y="34"/>
                </a:lnTo>
                <a:lnTo>
                  <a:pt x="1904" y="36"/>
                </a:lnTo>
                <a:lnTo>
                  <a:pt x="1918" y="39"/>
                </a:lnTo>
                <a:lnTo>
                  <a:pt x="1929" y="44"/>
                </a:lnTo>
                <a:lnTo>
                  <a:pt x="1940" y="50"/>
                </a:lnTo>
                <a:lnTo>
                  <a:pt x="1951" y="57"/>
                </a:lnTo>
                <a:lnTo>
                  <a:pt x="1959" y="65"/>
                </a:lnTo>
                <a:lnTo>
                  <a:pt x="1965" y="73"/>
                </a:lnTo>
                <a:lnTo>
                  <a:pt x="1965" y="73"/>
                </a:lnTo>
                <a:lnTo>
                  <a:pt x="1948" y="81"/>
                </a:lnTo>
                <a:lnTo>
                  <a:pt x="1931" y="91"/>
                </a:lnTo>
                <a:lnTo>
                  <a:pt x="1916" y="100"/>
                </a:lnTo>
                <a:lnTo>
                  <a:pt x="1902" y="110"/>
                </a:lnTo>
                <a:lnTo>
                  <a:pt x="1893" y="123"/>
                </a:lnTo>
                <a:lnTo>
                  <a:pt x="1885" y="134"/>
                </a:lnTo>
                <a:lnTo>
                  <a:pt x="1878" y="147"/>
                </a:lnTo>
                <a:lnTo>
                  <a:pt x="1877" y="160"/>
                </a:lnTo>
                <a:lnTo>
                  <a:pt x="1877" y="160"/>
                </a:lnTo>
                <a:lnTo>
                  <a:pt x="1878" y="170"/>
                </a:lnTo>
                <a:lnTo>
                  <a:pt x="1880" y="178"/>
                </a:lnTo>
                <a:lnTo>
                  <a:pt x="1885" y="188"/>
                </a:lnTo>
                <a:lnTo>
                  <a:pt x="1889" y="196"/>
                </a:lnTo>
                <a:lnTo>
                  <a:pt x="1897" y="205"/>
                </a:lnTo>
                <a:lnTo>
                  <a:pt x="1905" y="213"/>
                </a:lnTo>
                <a:lnTo>
                  <a:pt x="1915" y="220"/>
                </a:lnTo>
                <a:lnTo>
                  <a:pt x="1926" y="228"/>
                </a:lnTo>
                <a:lnTo>
                  <a:pt x="1937" y="235"/>
                </a:lnTo>
                <a:lnTo>
                  <a:pt x="1949" y="239"/>
                </a:lnTo>
                <a:lnTo>
                  <a:pt x="1964" y="244"/>
                </a:lnTo>
                <a:lnTo>
                  <a:pt x="1978" y="249"/>
                </a:lnTo>
                <a:lnTo>
                  <a:pt x="1992" y="252"/>
                </a:lnTo>
                <a:lnTo>
                  <a:pt x="2008" y="254"/>
                </a:lnTo>
                <a:lnTo>
                  <a:pt x="2025" y="256"/>
                </a:lnTo>
                <a:lnTo>
                  <a:pt x="2041" y="257"/>
                </a:lnTo>
                <a:lnTo>
                  <a:pt x="2041" y="257"/>
                </a:lnTo>
                <a:lnTo>
                  <a:pt x="2058" y="256"/>
                </a:lnTo>
                <a:lnTo>
                  <a:pt x="2074" y="254"/>
                </a:lnTo>
                <a:lnTo>
                  <a:pt x="2092" y="252"/>
                </a:lnTo>
                <a:lnTo>
                  <a:pt x="2106" y="249"/>
                </a:lnTo>
                <a:lnTo>
                  <a:pt x="2122" y="244"/>
                </a:lnTo>
                <a:lnTo>
                  <a:pt x="2136" y="239"/>
                </a:lnTo>
                <a:lnTo>
                  <a:pt x="2148" y="235"/>
                </a:lnTo>
                <a:lnTo>
                  <a:pt x="2161" y="228"/>
                </a:lnTo>
                <a:lnTo>
                  <a:pt x="2172" y="220"/>
                </a:lnTo>
                <a:lnTo>
                  <a:pt x="2182" y="213"/>
                </a:lnTo>
                <a:lnTo>
                  <a:pt x="2189" y="205"/>
                </a:lnTo>
                <a:lnTo>
                  <a:pt x="2197" y="196"/>
                </a:lnTo>
                <a:lnTo>
                  <a:pt x="2202" y="188"/>
                </a:lnTo>
                <a:lnTo>
                  <a:pt x="2205" y="178"/>
                </a:lnTo>
                <a:lnTo>
                  <a:pt x="2207" y="170"/>
                </a:lnTo>
                <a:lnTo>
                  <a:pt x="2205" y="160"/>
                </a:lnTo>
                <a:lnTo>
                  <a:pt x="2205" y="160"/>
                </a:lnTo>
                <a:lnTo>
                  <a:pt x="2204" y="149"/>
                </a:lnTo>
                <a:lnTo>
                  <a:pt x="2199" y="139"/>
                </a:lnTo>
                <a:lnTo>
                  <a:pt x="2193" y="129"/>
                </a:lnTo>
                <a:lnTo>
                  <a:pt x="2186" y="120"/>
                </a:lnTo>
                <a:lnTo>
                  <a:pt x="2177" y="112"/>
                </a:lnTo>
                <a:lnTo>
                  <a:pt x="2167" y="102"/>
                </a:lnTo>
                <a:lnTo>
                  <a:pt x="2156" y="94"/>
                </a:lnTo>
                <a:lnTo>
                  <a:pt x="2145" y="86"/>
                </a:lnTo>
                <a:lnTo>
                  <a:pt x="2145" y="86"/>
                </a:lnTo>
                <a:lnTo>
                  <a:pt x="2155" y="76"/>
                </a:lnTo>
                <a:lnTo>
                  <a:pt x="2164" y="68"/>
                </a:lnTo>
                <a:lnTo>
                  <a:pt x="2175" y="60"/>
                </a:lnTo>
                <a:lnTo>
                  <a:pt x="2185" y="52"/>
                </a:lnTo>
                <a:lnTo>
                  <a:pt x="2197" y="45"/>
                </a:lnTo>
                <a:lnTo>
                  <a:pt x="2208" y="39"/>
                </a:lnTo>
                <a:lnTo>
                  <a:pt x="2221" y="32"/>
                </a:lnTo>
                <a:lnTo>
                  <a:pt x="2234" y="27"/>
                </a:lnTo>
                <a:lnTo>
                  <a:pt x="2246" y="23"/>
                </a:lnTo>
                <a:lnTo>
                  <a:pt x="2260" y="18"/>
                </a:lnTo>
                <a:lnTo>
                  <a:pt x="2275" y="15"/>
                </a:lnTo>
                <a:lnTo>
                  <a:pt x="2289" y="11"/>
                </a:lnTo>
                <a:lnTo>
                  <a:pt x="2301" y="10"/>
                </a:lnTo>
                <a:lnTo>
                  <a:pt x="2317" y="8"/>
                </a:lnTo>
                <a:lnTo>
                  <a:pt x="2331" y="6"/>
                </a:lnTo>
                <a:lnTo>
                  <a:pt x="2347" y="6"/>
                </a:lnTo>
                <a:lnTo>
                  <a:pt x="2347" y="6"/>
                </a:lnTo>
                <a:lnTo>
                  <a:pt x="2361" y="6"/>
                </a:lnTo>
                <a:lnTo>
                  <a:pt x="2376" y="8"/>
                </a:lnTo>
                <a:lnTo>
                  <a:pt x="2388" y="8"/>
                </a:lnTo>
                <a:lnTo>
                  <a:pt x="2402" y="11"/>
                </a:lnTo>
                <a:lnTo>
                  <a:pt x="2415" y="13"/>
                </a:lnTo>
                <a:lnTo>
                  <a:pt x="2429" y="16"/>
                </a:lnTo>
                <a:lnTo>
                  <a:pt x="2442" y="21"/>
                </a:lnTo>
                <a:lnTo>
                  <a:pt x="2455" y="24"/>
                </a:lnTo>
                <a:lnTo>
                  <a:pt x="2466" y="29"/>
                </a:lnTo>
                <a:lnTo>
                  <a:pt x="2478" y="34"/>
                </a:lnTo>
                <a:lnTo>
                  <a:pt x="2489" y="40"/>
                </a:lnTo>
                <a:lnTo>
                  <a:pt x="2500" y="45"/>
                </a:lnTo>
                <a:lnTo>
                  <a:pt x="2510" y="52"/>
                </a:lnTo>
                <a:lnTo>
                  <a:pt x="2521" y="58"/>
                </a:lnTo>
                <a:lnTo>
                  <a:pt x="2530" y="66"/>
                </a:lnTo>
                <a:lnTo>
                  <a:pt x="2540" y="73"/>
                </a:lnTo>
                <a:lnTo>
                  <a:pt x="2540" y="73"/>
                </a:lnTo>
                <a:lnTo>
                  <a:pt x="2535" y="82"/>
                </a:lnTo>
                <a:lnTo>
                  <a:pt x="2530" y="94"/>
                </a:lnTo>
                <a:lnTo>
                  <a:pt x="2526" y="104"/>
                </a:lnTo>
                <a:lnTo>
                  <a:pt x="2522" y="115"/>
                </a:lnTo>
                <a:lnTo>
                  <a:pt x="2521" y="128"/>
                </a:lnTo>
                <a:lnTo>
                  <a:pt x="2518" y="139"/>
                </a:lnTo>
                <a:lnTo>
                  <a:pt x="2518" y="150"/>
                </a:lnTo>
                <a:lnTo>
                  <a:pt x="2516" y="162"/>
                </a:lnTo>
                <a:lnTo>
                  <a:pt x="2516" y="162"/>
                </a:lnTo>
                <a:lnTo>
                  <a:pt x="2518" y="180"/>
                </a:lnTo>
                <a:lnTo>
                  <a:pt x="2521" y="196"/>
                </a:lnTo>
                <a:lnTo>
                  <a:pt x="2524" y="212"/>
                </a:lnTo>
                <a:lnTo>
                  <a:pt x="2530" y="226"/>
                </a:lnTo>
                <a:lnTo>
                  <a:pt x="2538" y="239"/>
                </a:lnTo>
                <a:lnTo>
                  <a:pt x="2548" y="251"/>
                </a:lnTo>
                <a:lnTo>
                  <a:pt x="2557" y="262"/>
                </a:lnTo>
                <a:lnTo>
                  <a:pt x="2568" y="272"/>
                </a:lnTo>
                <a:lnTo>
                  <a:pt x="2581" y="280"/>
                </a:lnTo>
                <a:lnTo>
                  <a:pt x="2593" y="285"/>
                </a:lnTo>
                <a:lnTo>
                  <a:pt x="2608" y="290"/>
                </a:lnTo>
                <a:lnTo>
                  <a:pt x="2623" y="293"/>
                </a:lnTo>
                <a:lnTo>
                  <a:pt x="2638" y="293"/>
                </a:lnTo>
                <a:lnTo>
                  <a:pt x="2655" y="293"/>
                </a:lnTo>
                <a:lnTo>
                  <a:pt x="2671" y="290"/>
                </a:lnTo>
                <a:lnTo>
                  <a:pt x="2687" y="283"/>
                </a:lnTo>
                <a:lnTo>
                  <a:pt x="2687" y="283"/>
                </a:lnTo>
                <a:lnTo>
                  <a:pt x="2699" y="278"/>
                </a:lnTo>
                <a:lnTo>
                  <a:pt x="2710" y="273"/>
                </a:lnTo>
                <a:lnTo>
                  <a:pt x="2721" y="265"/>
                </a:lnTo>
                <a:lnTo>
                  <a:pt x="2729" y="259"/>
                </a:lnTo>
                <a:lnTo>
                  <a:pt x="2739" y="249"/>
                </a:lnTo>
                <a:lnTo>
                  <a:pt x="2745" y="241"/>
                </a:lnTo>
                <a:lnTo>
                  <a:pt x="2751" y="231"/>
                </a:lnTo>
                <a:lnTo>
                  <a:pt x="2756" y="220"/>
                </a:lnTo>
                <a:lnTo>
                  <a:pt x="2759" y="210"/>
                </a:lnTo>
                <a:lnTo>
                  <a:pt x="2761" y="199"/>
                </a:lnTo>
                <a:lnTo>
                  <a:pt x="2761" y="188"/>
                </a:lnTo>
                <a:lnTo>
                  <a:pt x="2761" y="176"/>
                </a:lnTo>
                <a:lnTo>
                  <a:pt x="2758" y="165"/>
                </a:lnTo>
                <a:lnTo>
                  <a:pt x="2753" y="154"/>
                </a:lnTo>
                <a:lnTo>
                  <a:pt x="2747" y="142"/>
                </a:lnTo>
                <a:lnTo>
                  <a:pt x="2737" y="131"/>
                </a:lnTo>
                <a:lnTo>
                  <a:pt x="2737" y="131"/>
                </a:lnTo>
                <a:lnTo>
                  <a:pt x="2729" y="123"/>
                </a:lnTo>
                <a:lnTo>
                  <a:pt x="2721" y="116"/>
                </a:lnTo>
                <a:lnTo>
                  <a:pt x="2713" y="112"/>
                </a:lnTo>
                <a:lnTo>
                  <a:pt x="2704" y="107"/>
                </a:lnTo>
                <a:lnTo>
                  <a:pt x="2695" y="104"/>
                </a:lnTo>
                <a:lnTo>
                  <a:pt x="2685" y="102"/>
                </a:lnTo>
                <a:lnTo>
                  <a:pt x="2676" y="100"/>
                </a:lnTo>
                <a:lnTo>
                  <a:pt x="2666" y="102"/>
                </a:lnTo>
                <a:lnTo>
                  <a:pt x="2657" y="102"/>
                </a:lnTo>
                <a:lnTo>
                  <a:pt x="2647" y="105"/>
                </a:lnTo>
                <a:lnTo>
                  <a:pt x="2639" y="108"/>
                </a:lnTo>
                <a:lnTo>
                  <a:pt x="2630" y="113"/>
                </a:lnTo>
                <a:lnTo>
                  <a:pt x="2623" y="120"/>
                </a:lnTo>
                <a:lnTo>
                  <a:pt x="2616" y="126"/>
                </a:lnTo>
                <a:lnTo>
                  <a:pt x="2609" y="136"/>
                </a:lnTo>
                <a:lnTo>
                  <a:pt x="2605" y="146"/>
                </a:lnTo>
                <a:lnTo>
                  <a:pt x="2605" y="146"/>
                </a:lnTo>
                <a:lnTo>
                  <a:pt x="2601" y="155"/>
                </a:lnTo>
                <a:lnTo>
                  <a:pt x="2600" y="165"/>
                </a:lnTo>
                <a:lnTo>
                  <a:pt x="2598" y="173"/>
                </a:lnTo>
                <a:lnTo>
                  <a:pt x="2598" y="183"/>
                </a:lnTo>
                <a:lnTo>
                  <a:pt x="2600" y="191"/>
                </a:lnTo>
                <a:lnTo>
                  <a:pt x="2601" y="199"/>
                </a:lnTo>
                <a:lnTo>
                  <a:pt x="2605" y="205"/>
                </a:lnTo>
                <a:lnTo>
                  <a:pt x="2608" y="210"/>
                </a:lnTo>
                <a:lnTo>
                  <a:pt x="2608" y="210"/>
                </a:lnTo>
                <a:lnTo>
                  <a:pt x="2614" y="218"/>
                </a:lnTo>
                <a:lnTo>
                  <a:pt x="2620" y="220"/>
                </a:lnTo>
                <a:lnTo>
                  <a:pt x="2625" y="218"/>
                </a:lnTo>
                <a:lnTo>
                  <a:pt x="2630" y="213"/>
                </a:lnTo>
                <a:lnTo>
                  <a:pt x="2630" y="209"/>
                </a:lnTo>
                <a:lnTo>
                  <a:pt x="2630" y="202"/>
                </a:lnTo>
                <a:lnTo>
                  <a:pt x="2625" y="199"/>
                </a:lnTo>
                <a:lnTo>
                  <a:pt x="2617" y="201"/>
                </a:lnTo>
                <a:lnTo>
                  <a:pt x="2614" y="196"/>
                </a:lnTo>
                <a:lnTo>
                  <a:pt x="2612" y="191"/>
                </a:lnTo>
                <a:lnTo>
                  <a:pt x="2612" y="191"/>
                </a:lnTo>
                <a:lnTo>
                  <a:pt x="2611" y="173"/>
                </a:lnTo>
                <a:lnTo>
                  <a:pt x="2612" y="157"/>
                </a:lnTo>
                <a:lnTo>
                  <a:pt x="2617" y="142"/>
                </a:lnTo>
                <a:lnTo>
                  <a:pt x="2625" y="131"/>
                </a:lnTo>
                <a:lnTo>
                  <a:pt x="2636" y="121"/>
                </a:lnTo>
                <a:lnTo>
                  <a:pt x="2649" y="115"/>
                </a:lnTo>
                <a:lnTo>
                  <a:pt x="2665" y="112"/>
                </a:lnTo>
                <a:lnTo>
                  <a:pt x="2682" y="112"/>
                </a:lnTo>
                <a:lnTo>
                  <a:pt x="2682" y="112"/>
                </a:lnTo>
                <a:lnTo>
                  <a:pt x="2695" y="115"/>
                </a:lnTo>
                <a:lnTo>
                  <a:pt x="2704" y="120"/>
                </a:lnTo>
                <a:lnTo>
                  <a:pt x="2713" y="125"/>
                </a:lnTo>
                <a:lnTo>
                  <a:pt x="2723" y="131"/>
                </a:lnTo>
                <a:lnTo>
                  <a:pt x="2731" y="139"/>
                </a:lnTo>
                <a:lnTo>
                  <a:pt x="2737" y="147"/>
                </a:lnTo>
                <a:lnTo>
                  <a:pt x="2742" y="155"/>
                </a:lnTo>
                <a:lnTo>
                  <a:pt x="2747" y="165"/>
                </a:lnTo>
                <a:lnTo>
                  <a:pt x="2750" y="175"/>
                </a:lnTo>
                <a:lnTo>
                  <a:pt x="2751" y="186"/>
                </a:lnTo>
                <a:lnTo>
                  <a:pt x="2751" y="196"/>
                </a:lnTo>
                <a:lnTo>
                  <a:pt x="2750" y="207"/>
                </a:lnTo>
                <a:lnTo>
                  <a:pt x="2747" y="217"/>
                </a:lnTo>
                <a:lnTo>
                  <a:pt x="2742" y="228"/>
                </a:lnTo>
                <a:lnTo>
                  <a:pt x="2737" y="238"/>
                </a:lnTo>
                <a:lnTo>
                  <a:pt x="2729" y="247"/>
                </a:lnTo>
                <a:lnTo>
                  <a:pt x="2729" y="247"/>
                </a:lnTo>
                <a:lnTo>
                  <a:pt x="2715" y="259"/>
                </a:lnTo>
                <a:lnTo>
                  <a:pt x="2699" y="268"/>
                </a:lnTo>
                <a:lnTo>
                  <a:pt x="2683" y="275"/>
                </a:lnTo>
                <a:lnTo>
                  <a:pt x="2668" y="280"/>
                </a:lnTo>
                <a:lnTo>
                  <a:pt x="2652" y="283"/>
                </a:lnTo>
                <a:lnTo>
                  <a:pt x="2636" y="283"/>
                </a:lnTo>
                <a:lnTo>
                  <a:pt x="2620" y="281"/>
                </a:lnTo>
                <a:lnTo>
                  <a:pt x="2606" y="278"/>
                </a:lnTo>
                <a:lnTo>
                  <a:pt x="2592" y="273"/>
                </a:lnTo>
                <a:lnTo>
                  <a:pt x="2578" y="265"/>
                </a:lnTo>
                <a:lnTo>
                  <a:pt x="2565" y="257"/>
                </a:lnTo>
                <a:lnTo>
                  <a:pt x="2554" y="246"/>
                </a:lnTo>
                <a:lnTo>
                  <a:pt x="2545" y="231"/>
                </a:lnTo>
                <a:lnTo>
                  <a:pt x="2537" y="217"/>
                </a:lnTo>
                <a:lnTo>
                  <a:pt x="2530" y="199"/>
                </a:lnTo>
                <a:lnTo>
                  <a:pt x="2527" y="181"/>
                </a:lnTo>
                <a:lnTo>
                  <a:pt x="2527" y="181"/>
                </a:lnTo>
                <a:lnTo>
                  <a:pt x="2526" y="170"/>
                </a:lnTo>
                <a:lnTo>
                  <a:pt x="2527" y="157"/>
                </a:lnTo>
                <a:lnTo>
                  <a:pt x="2527" y="144"/>
                </a:lnTo>
                <a:lnTo>
                  <a:pt x="2530" y="129"/>
                </a:lnTo>
                <a:lnTo>
                  <a:pt x="2534" y="115"/>
                </a:lnTo>
                <a:lnTo>
                  <a:pt x="2537" y="102"/>
                </a:lnTo>
                <a:lnTo>
                  <a:pt x="2541" y="89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56" y="73"/>
                </a:lnTo>
                <a:lnTo>
                  <a:pt x="2564" y="65"/>
                </a:lnTo>
                <a:lnTo>
                  <a:pt x="2571" y="57"/>
                </a:lnTo>
                <a:lnTo>
                  <a:pt x="2579" y="49"/>
                </a:lnTo>
                <a:lnTo>
                  <a:pt x="2589" y="42"/>
                </a:lnTo>
                <a:lnTo>
                  <a:pt x="2598" y="36"/>
                </a:lnTo>
                <a:lnTo>
                  <a:pt x="2608" y="29"/>
                </a:lnTo>
                <a:lnTo>
                  <a:pt x="2617" y="23"/>
                </a:lnTo>
                <a:lnTo>
                  <a:pt x="2628" y="18"/>
                </a:lnTo>
                <a:lnTo>
                  <a:pt x="2639" y="13"/>
                </a:lnTo>
                <a:lnTo>
                  <a:pt x="2649" y="10"/>
                </a:lnTo>
                <a:lnTo>
                  <a:pt x="2660" y="6"/>
                </a:lnTo>
                <a:lnTo>
                  <a:pt x="2672" y="3"/>
                </a:lnTo>
                <a:lnTo>
                  <a:pt x="2683" y="2"/>
                </a:lnTo>
                <a:lnTo>
                  <a:pt x="2695" y="0"/>
                </a:lnTo>
                <a:lnTo>
                  <a:pt x="2707" y="0"/>
                </a:lnTo>
                <a:lnTo>
                  <a:pt x="2707" y="0"/>
                </a:lnTo>
                <a:lnTo>
                  <a:pt x="2728" y="3"/>
                </a:lnTo>
                <a:lnTo>
                  <a:pt x="2747" y="6"/>
                </a:lnTo>
                <a:lnTo>
                  <a:pt x="2766" y="13"/>
                </a:lnTo>
                <a:lnTo>
                  <a:pt x="2781" y="21"/>
                </a:lnTo>
                <a:lnTo>
                  <a:pt x="2796" y="31"/>
                </a:lnTo>
                <a:lnTo>
                  <a:pt x="2808" y="42"/>
                </a:lnTo>
                <a:lnTo>
                  <a:pt x="2819" y="53"/>
                </a:lnTo>
                <a:lnTo>
                  <a:pt x="2830" y="66"/>
                </a:lnTo>
                <a:lnTo>
                  <a:pt x="2840" y="79"/>
                </a:lnTo>
                <a:lnTo>
                  <a:pt x="2848" y="94"/>
                </a:lnTo>
                <a:lnTo>
                  <a:pt x="2854" y="108"/>
                </a:lnTo>
                <a:lnTo>
                  <a:pt x="2860" y="121"/>
                </a:lnTo>
                <a:lnTo>
                  <a:pt x="2867" y="136"/>
                </a:lnTo>
                <a:lnTo>
                  <a:pt x="2871" y="150"/>
                </a:lnTo>
                <a:lnTo>
                  <a:pt x="2876" y="163"/>
                </a:lnTo>
                <a:lnTo>
                  <a:pt x="2879" y="176"/>
                </a:lnTo>
                <a:lnTo>
                  <a:pt x="2879" y="176"/>
                </a:lnTo>
                <a:lnTo>
                  <a:pt x="2884" y="163"/>
                </a:lnTo>
                <a:lnTo>
                  <a:pt x="2887" y="150"/>
                </a:lnTo>
                <a:lnTo>
                  <a:pt x="2890" y="136"/>
                </a:lnTo>
                <a:lnTo>
                  <a:pt x="2895" y="121"/>
                </a:lnTo>
                <a:lnTo>
                  <a:pt x="2900" y="108"/>
                </a:lnTo>
                <a:lnTo>
                  <a:pt x="2906" y="94"/>
                </a:lnTo>
                <a:lnTo>
                  <a:pt x="2914" y="79"/>
                </a:lnTo>
                <a:lnTo>
                  <a:pt x="2922" y="66"/>
                </a:lnTo>
                <a:lnTo>
                  <a:pt x="2931" y="53"/>
                </a:lnTo>
                <a:lnTo>
                  <a:pt x="2942" y="42"/>
                </a:lnTo>
                <a:lnTo>
                  <a:pt x="2955" y="31"/>
                </a:lnTo>
                <a:lnTo>
                  <a:pt x="2971" y="21"/>
                </a:lnTo>
                <a:lnTo>
                  <a:pt x="2988" y="13"/>
                </a:lnTo>
                <a:lnTo>
                  <a:pt x="3007" y="6"/>
                </a:lnTo>
                <a:lnTo>
                  <a:pt x="3028" y="2"/>
                </a:lnTo>
                <a:lnTo>
                  <a:pt x="3053" y="0"/>
                </a:lnTo>
                <a:lnTo>
                  <a:pt x="3053" y="0"/>
                </a:lnTo>
                <a:lnTo>
                  <a:pt x="3064" y="0"/>
                </a:lnTo>
                <a:lnTo>
                  <a:pt x="3077" y="2"/>
                </a:lnTo>
                <a:lnTo>
                  <a:pt x="3088" y="3"/>
                </a:lnTo>
                <a:lnTo>
                  <a:pt x="3099" y="5"/>
                </a:lnTo>
                <a:lnTo>
                  <a:pt x="3110" y="8"/>
                </a:lnTo>
                <a:lnTo>
                  <a:pt x="3121" y="13"/>
                </a:lnTo>
                <a:lnTo>
                  <a:pt x="3130" y="18"/>
                </a:lnTo>
                <a:lnTo>
                  <a:pt x="3141" y="23"/>
                </a:lnTo>
                <a:lnTo>
                  <a:pt x="3151" y="29"/>
                </a:lnTo>
                <a:lnTo>
                  <a:pt x="3160" y="34"/>
                </a:lnTo>
                <a:lnTo>
                  <a:pt x="3170" y="42"/>
                </a:lnTo>
                <a:lnTo>
                  <a:pt x="3179" y="49"/>
                </a:lnTo>
                <a:lnTo>
                  <a:pt x="3187" y="57"/>
                </a:lnTo>
                <a:lnTo>
                  <a:pt x="3195" y="65"/>
                </a:lnTo>
                <a:lnTo>
                  <a:pt x="3203" y="73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2" y="81"/>
                </a:lnTo>
                <a:lnTo>
                  <a:pt x="3212" y="81"/>
                </a:lnTo>
                <a:lnTo>
                  <a:pt x="3217" y="89"/>
                </a:lnTo>
                <a:lnTo>
                  <a:pt x="3222" y="100"/>
                </a:lnTo>
                <a:lnTo>
                  <a:pt x="3226" y="115"/>
                </a:lnTo>
                <a:lnTo>
                  <a:pt x="3230" y="128"/>
                </a:lnTo>
                <a:lnTo>
                  <a:pt x="3231" y="142"/>
                </a:lnTo>
                <a:lnTo>
                  <a:pt x="3231" y="157"/>
                </a:lnTo>
                <a:lnTo>
                  <a:pt x="3233" y="170"/>
                </a:lnTo>
                <a:lnTo>
                  <a:pt x="3231" y="181"/>
                </a:lnTo>
                <a:lnTo>
                  <a:pt x="3231" y="181"/>
                </a:lnTo>
                <a:lnTo>
                  <a:pt x="3228" y="199"/>
                </a:lnTo>
                <a:lnTo>
                  <a:pt x="3222" y="217"/>
                </a:lnTo>
                <a:lnTo>
                  <a:pt x="3214" y="231"/>
                </a:lnTo>
                <a:lnTo>
                  <a:pt x="3204" y="246"/>
                </a:lnTo>
                <a:lnTo>
                  <a:pt x="3193" y="257"/>
                </a:lnTo>
                <a:lnTo>
                  <a:pt x="3181" y="265"/>
                </a:lnTo>
                <a:lnTo>
                  <a:pt x="3167" y="273"/>
                </a:lnTo>
                <a:lnTo>
                  <a:pt x="3152" y="278"/>
                </a:lnTo>
                <a:lnTo>
                  <a:pt x="3138" y="281"/>
                </a:lnTo>
                <a:lnTo>
                  <a:pt x="3122" y="283"/>
                </a:lnTo>
                <a:lnTo>
                  <a:pt x="3107" y="283"/>
                </a:lnTo>
                <a:lnTo>
                  <a:pt x="3091" y="280"/>
                </a:lnTo>
                <a:lnTo>
                  <a:pt x="3075" y="275"/>
                </a:lnTo>
                <a:lnTo>
                  <a:pt x="3059" y="268"/>
                </a:lnTo>
                <a:lnTo>
                  <a:pt x="3043" y="259"/>
                </a:lnTo>
                <a:lnTo>
                  <a:pt x="3029" y="247"/>
                </a:lnTo>
                <a:lnTo>
                  <a:pt x="3029" y="247"/>
                </a:lnTo>
                <a:lnTo>
                  <a:pt x="3021" y="238"/>
                </a:lnTo>
                <a:lnTo>
                  <a:pt x="3017" y="228"/>
                </a:lnTo>
                <a:lnTo>
                  <a:pt x="3012" y="217"/>
                </a:lnTo>
                <a:lnTo>
                  <a:pt x="3009" y="207"/>
                </a:lnTo>
                <a:lnTo>
                  <a:pt x="3007" y="196"/>
                </a:lnTo>
                <a:lnTo>
                  <a:pt x="3007" y="186"/>
                </a:lnTo>
                <a:lnTo>
                  <a:pt x="3009" y="175"/>
                </a:lnTo>
                <a:lnTo>
                  <a:pt x="3012" y="165"/>
                </a:lnTo>
                <a:lnTo>
                  <a:pt x="3017" y="155"/>
                </a:lnTo>
                <a:lnTo>
                  <a:pt x="3021" y="147"/>
                </a:lnTo>
                <a:lnTo>
                  <a:pt x="3028" y="139"/>
                </a:lnTo>
                <a:lnTo>
                  <a:pt x="3035" y="131"/>
                </a:lnTo>
                <a:lnTo>
                  <a:pt x="3045" y="125"/>
                </a:lnTo>
                <a:lnTo>
                  <a:pt x="3054" y="120"/>
                </a:lnTo>
                <a:lnTo>
                  <a:pt x="3064" y="115"/>
                </a:lnTo>
                <a:lnTo>
                  <a:pt x="3077" y="112"/>
                </a:lnTo>
                <a:lnTo>
                  <a:pt x="3077" y="112"/>
                </a:lnTo>
                <a:lnTo>
                  <a:pt x="3094" y="112"/>
                </a:lnTo>
                <a:lnTo>
                  <a:pt x="3110" y="115"/>
                </a:lnTo>
                <a:lnTo>
                  <a:pt x="3122" y="121"/>
                </a:lnTo>
                <a:lnTo>
                  <a:pt x="3133" y="131"/>
                </a:lnTo>
                <a:lnTo>
                  <a:pt x="3141" y="142"/>
                </a:lnTo>
                <a:lnTo>
                  <a:pt x="3146" y="157"/>
                </a:lnTo>
                <a:lnTo>
                  <a:pt x="3148" y="173"/>
                </a:lnTo>
                <a:lnTo>
                  <a:pt x="3146" y="191"/>
                </a:lnTo>
                <a:lnTo>
                  <a:pt x="3144" y="196"/>
                </a:lnTo>
                <a:lnTo>
                  <a:pt x="3141" y="201"/>
                </a:lnTo>
                <a:lnTo>
                  <a:pt x="3141" y="201"/>
                </a:lnTo>
                <a:lnTo>
                  <a:pt x="3133" y="199"/>
                </a:lnTo>
                <a:lnTo>
                  <a:pt x="3129" y="202"/>
                </a:lnTo>
                <a:lnTo>
                  <a:pt x="3129" y="209"/>
                </a:lnTo>
                <a:lnTo>
                  <a:pt x="3130" y="213"/>
                </a:lnTo>
                <a:lnTo>
                  <a:pt x="3133" y="218"/>
                </a:lnTo>
                <a:lnTo>
                  <a:pt x="3138" y="220"/>
                </a:lnTo>
                <a:lnTo>
                  <a:pt x="3144" y="218"/>
                </a:lnTo>
                <a:lnTo>
                  <a:pt x="3151" y="210"/>
                </a:lnTo>
                <a:lnTo>
                  <a:pt x="3151" y="210"/>
                </a:lnTo>
                <a:lnTo>
                  <a:pt x="3154" y="205"/>
                </a:lnTo>
                <a:lnTo>
                  <a:pt x="3157" y="199"/>
                </a:lnTo>
                <a:lnTo>
                  <a:pt x="3159" y="191"/>
                </a:lnTo>
                <a:lnTo>
                  <a:pt x="3160" y="183"/>
                </a:lnTo>
                <a:lnTo>
                  <a:pt x="3160" y="173"/>
                </a:lnTo>
                <a:lnTo>
                  <a:pt x="3159" y="165"/>
                </a:lnTo>
                <a:lnTo>
                  <a:pt x="3157" y="155"/>
                </a:lnTo>
                <a:lnTo>
                  <a:pt x="3154" y="146"/>
                </a:lnTo>
                <a:lnTo>
                  <a:pt x="3154" y="146"/>
                </a:lnTo>
                <a:lnTo>
                  <a:pt x="3149" y="136"/>
                </a:lnTo>
                <a:lnTo>
                  <a:pt x="3143" y="126"/>
                </a:lnTo>
                <a:lnTo>
                  <a:pt x="3135" y="120"/>
                </a:lnTo>
                <a:lnTo>
                  <a:pt x="3129" y="113"/>
                </a:lnTo>
                <a:lnTo>
                  <a:pt x="3119" y="108"/>
                </a:lnTo>
                <a:lnTo>
                  <a:pt x="3111" y="105"/>
                </a:lnTo>
                <a:lnTo>
                  <a:pt x="3102" y="102"/>
                </a:lnTo>
                <a:lnTo>
                  <a:pt x="3092" y="102"/>
                </a:lnTo>
                <a:lnTo>
                  <a:pt x="3083" y="100"/>
                </a:lnTo>
                <a:lnTo>
                  <a:pt x="3073" y="102"/>
                </a:lnTo>
                <a:lnTo>
                  <a:pt x="3064" y="104"/>
                </a:lnTo>
                <a:lnTo>
                  <a:pt x="3054" y="107"/>
                </a:lnTo>
                <a:lnTo>
                  <a:pt x="3045" y="112"/>
                </a:lnTo>
                <a:lnTo>
                  <a:pt x="3037" y="116"/>
                </a:lnTo>
                <a:lnTo>
                  <a:pt x="3029" y="123"/>
                </a:lnTo>
                <a:lnTo>
                  <a:pt x="3021" y="131"/>
                </a:lnTo>
                <a:lnTo>
                  <a:pt x="3021" y="131"/>
                </a:lnTo>
                <a:lnTo>
                  <a:pt x="3012" y="142"/>
                </a:lnTo>
                <a:lnTo>
                  <a:pt x="3005" y="154"/>
                </a:lnTo>
                <a:lnTo>
                  <a:pt x="3001" y="165"/>
                </a:lnTo>
                <a:lnTo>
                  <a:pt x="2998" y="176"/>
                </a:lnTo>
                <a:lnTo>
                  <a:pt x="2998" y="188"/>
                </a:lnTo>
                <a:lnTo>
                  <a:pt x="2998" y="199"/>
                </a:lnTo>
                <a:lnTo>
                  <a:pt x="2999" y="210"/>
                </a:lnTo>
                <a:lnTo>
                  <a:pt x="3002" y="220"/>
                </a:lnTo>
                <a:lnTo>
                  <a:pt x="3007" y="231"/>
                </a:lnTo>
                <a:lnTo>
                  <a:pt x="3013" y="241"/>
                </a:lnTo>
                <a:lnTo>
                  <a:pt x="3020" y="249"/>
                </a:lnTo>
                <a:lnTo>
                  <a:pt x="3029" y="259"/>
                </a:lnTo>
                <a:lnTo>
                  <a:pt x="3037" y="265"/>
                </a:lnTo>
                <a:lnTo>
                  <a:pt x="3048" y="273"/>
                </a:lnTo>
                <a:lnTo>
                  <a:pt x="3059" y="278"/>
                </a:lnTo>
                <a:lnTo>
                  <a:pt x="3072" y="283"/>
                </a:lnTo>
                <a:lnTo>
                  <a:pt x="3072" y="283"/>
                </a:lnTo>
                <a:lnTo>
                  <a:pt x="3088" y="290"/>
                </a:lnTo>
                <a:lnTo>
                  <a:pt x="3103" y="293"/>
                </a:lnTo>
                <a:lnTo>
                  <a:pt x="3121" y="293"/>
                </a:lnTo>
                <a:lnTo>
                  <a:pt x="3135" y="293"/>
                </a:lnTo>
                <a:lnTo>
                  <a:pt x="3151" y="290"/>
                </a:lnTo>
                <a:lnTo>
                  <a:pt x="3165" y="285"/>
                </a:lnTo>
                <a:lnTo>
                  <a:pt x="3178" y="280"/>
                </a:lnTo>
                <a:lnTo>
                  <a:pt x="3190" y="272"/>
                </a:lnTo>
                <a:lnTo>
                  <a:pt x="3201" y="262"/>
                </a:lnTo>
                <a:lnTo>
                  <a:pt x="3211" y="251"/>
                </a:lnTo>
                <a:lnTo>
                  <a:pt x="3220" y="239"/>
                </a:lnTo>
                <a:lnTo>
                  <a:pt x="3228" y="226"/>
                </a:lnTo>
                <a:lnTo>
                  <a:pt x="3234" y="212"/>
                </a:lnTo>
                <a:lnTo>
                  <a:pt x="3238" y="196"/>
                </a:lnTo>
                <a:lnTo>
                  <a:pt x="3241" y="180"/>
                </a:lnTo>
                <a:lnTo>
                  <a:pt x="3242" y="162"/>
                </a:lnTo>
                <a:lnTo>
                  <a:pt x="3242" y="162"/>
                </a:lnTo>
                <a:lnTo>
                  <a:pt x="3241" y="150"/>
                </a:lnTo>
                <a:lnTo>
                  <a:pt x="3241" y="139"/>
                </a:lnTo>
                <a:lnTo>
                  <a:pt x="3238" y="128"/>
                </a:lnTo>
                <a:lnTo>
                  <a:pt x="3236" y="115"/>
                </a:lnTo>
                <a:lnTo>
                  <a:pt x="3233" y="104"/>
                </a:lnTo>
                <a:lnTo>
                  <a:pt x="3228" y="94"/>
                </a:lnTo>
                <a:lnTo>
                  <a:pt x="3225" y="82"/>
                </a:lnTo>
                <a:lnTo>
                  <a:pt x="3220" y="73"/>
                </a:lnTo>
                <a:lnTo>
                  <a:pt x="3220" y="73"/>
                </a:lnTo>
                <a:lnTo>
                  <a:pt x="3228" y="66"/>
                </a:lnTo>
                <a:lnTo>
                  <a:pt x="3238" y="58"/>
                </a:lnTo>
                <a:lnTo>
                  <a:pt x="3249" y="52"/>
                </a:lnTo>
                <a:lnTo>
                  <a:pt x="3258" y="45"/>
                </a:lnTo>
                <a:lnTo>
                  <a:pt x="3269" y="39"/>
                </a:lnTo>
                <a:lnTo>
                  <a:pt x="3282" y="34"/>
                </a:lnTo>
                <a:lnTo>
                  <a:pt x="3293" y="29"/>
                </a:lnTo>
                <a:lnTo>
                  <a:pt x="3305" y="24"/>
                </a:lnTo>
                <a:lnTo>
                  <a:pt x="3318" y="19"/>
                </a:lnTo>
                <a:lnTo>
                  <a:pt x="3331" y="16"/>
                </a:lnTo>
                <a:lnTo>
                  <a:pt x="3343" y="13"/>
                </a:lnTo>
                <a:lnTo>
                  <a:pt x="3356" y="11"/>
                </a:lnTo>
                <a:lnTo>
                  <a:pt x="3370" y="8"/>
                </a:lnTo>
                <a:lnTo>
                  <a:pt x="3384" y="6"/>
                </a:lnTo>
                <a:lnTo>
                  <a:pt x="3399" y="6"/>
                </a:lnTo>
                <a:lnTo>
                  <a:pt x="3413" y="6"/>
                </a:lnTo>
                <a:lnTo>
                  <a:pt x="3413" y="6"/>
                </a:lnTo>
                <a:lnTo>
                  <a:pt x="3427" y="6"/>
                </a:lnTo>
                <a:lnTo>
                  <a:pt x="3443" y="8"/>
                </a:lnTo>
                <a:lnTo>
                  <a:pt x="3455" y="10"/>
                </a:lnTo>
                <a:lnTo>
                  <a:pt x="3470" y="11"/>
                </a:lnTo>
                <a:lnTo>
                  <a:pt x="3484" y="15"/>
                </a:lnTo>
                <a:lnTo>
                  <a:pt x="3498" y="18"/>
                </a:lnTo>
                <a:lnTo>
                  <a:pt x="3512" y="23"/>
                </a:lnTo>
                <a:lnTo>
                  <a:pt x="3525" y="27"/>
                </a:lnTo>
                <a:lnTo>
                  <a:pt x="3537" y="32"/>
                </a:lnTo>
                <a:lnTo>
                  <a:pt x="3550" y="39"/>
                </a:lnTo>
                <a:lnTo>
                  <a:pt x="3561" y="45"/>
                </a:lnTo>
                <a:lnTo>
                  <a:pt x="3574" y="52"/>
                </a:lnTo>
                <a:lnTo>
                  <a:pt x="3585" y="60"/>
                </a:lnTo>
                <a:lnTo>
                  <a:pt x="3594" y="68"/>
                </a:lnTo>
                <a:lnTo>
                  <a:pt x="3605" y="76"/>
                </a:lnTo>
                <a:lnTo>
                  <a:pt x="3615" y="86"/>
                </a:lnTo>
                <a:lnTo>
                  <a:pt x="3615" y="86"/>
                </a:lnTo>
                <a:lnTo>
                  <a:pt x="3602" y="94"/>
                </a:lnTo>
                <a:lnTo>
                  <a:pt x="3591" y="102"/>
                </a:lnTo>
                <a:lnTo>
                  <a:pt x="3582" y="110"/>
                </a:lnTo>
                <a:lnTo>
                  <a:pt x="3574" y="120"/>
                </a:lnTo>
                <a:lnTo>
                  <a:pt x="3566" y="129"/>
                </a:lnTo>
                <a:lnTo>
                  <a:pt x="3560" y="139"/>
                </a:lnTo>
                <a:lnTo>
                  <a:pt x="3556" y="149"/>
                </a:lnTo>
                <a:lnTo>
                  <a:pt x="3553" y="159"/>
                </a:lnTo>
                <a:lnTo>
                  <a:pt x="3553" y="159"/>
                </a:lnTo>
                <a:lnTo>
                  <a:pt x="3552" y="168"/>
                </a:lnTo>
                <a:lnTo>
                  <a:pt x="3553" y="178"/>
                </a:lnTo>
                <a:lnTo>
                  <a:pt x="3556" y="188"/>
                </a:lnTo>
                <a:lnTo>
                  <a:pt x="3563" y="196"/>
                </a:lnTo>
                <a:lnTo>
                  <a:pt x="3569" y="204"/>
                </a:lnTo>
                <a:lnTo>
                  <a:pt x="3577" y="212"/>
                </a:lnTo>
                <a:lnTo>
                  <a:pt x="3586" y="220"/>
                </a:lnTo>
                <a:lnTo>
                  <a:pt x="3597" y="226"/>
                </a:lnTo>
                <a:lnTo>
                  <a:pt x="3610" y="233"/>
                </a:lnTo>
                <a:lnTo>
                  <a:pt x="3623" y="239"/>
                </a:lnTo>
                <a:lnTo>
                  <a:pt x="3637" y="244"/>
                </a:lnTo>
                <a:lnTo>
                  <a:pt x="3653" y="249"/>
                </a:lnTo>
                <a:lnTo>
                  <a:pt x="3668" y="252"/>
                </a:lnTo>
                <a:lnTo>
                  <a:pt x="3684" y="254"/>
                </a:lnTo>
                <a:lnTo>
                  <a:pt x="3700" y="256"/>
                </a:lnTo>
                <a:lnTo>
                  <a:pt x="3717" y="257"/>
                </a:lnTo>
                <a:lnTo>
                  <a:pt x="3717" y="257"/>
                </a:lnTo>
                <a:lnTo>
                  <a:pt x="3733" y="256"/>
                </a:lnTo>
                <a:lnTo>
                  <a:pt x="3751" y="254"/>
                </a:lnTo>
                <a:lnTo>
                  <a:pt x="3766" y="252"/>
                </a:lnTo>
                <a:lnTo>
                  <a:pt x="3781" y="249"/>
                </a:lnTo>
                <a:lnTo>
                  <a:pt x="3795" y="244"/>
                </a:lnTo>
                <a:lnTo>
                  <a:pt x="3809" y="239"/>
                </a:lnTo>
                <a:lnTo>
                  <a:pt x="3822" y="233"/>
                </a:lnTo>
                <a:lnTo>
                  <a:pt x="3833" y="226"/>
                </a:lnTo>
                <a:lnTo>
                  <a:pt x="3844" y="220"/>
                </a:lnTo>
                <a:lnTo>
                  <a:pt x="3853" y="212"/>
                </a:lnTo>
                <a:lnTo>
                  <a:pt x="3861" y="204"/>
                </a:lnTo>
                <a:lnTo>
                  <a:pt x="3869" y="196"/>
                </a:lnTo>
                <a:lnTo>
                  <a:pt x="3874" y="188"/>
                </a:lnTo>
                <a:lnTo>
                  <a:pt x="3878" y="178"/>
                </a:lnTo>
                <a:lnTo>
                  <a:pt x="3880" y="168"/>
                </a:lnTo>
                <a:lnTo>
                  <a:pt x="3882" y="159"/>
                </a:lnTo>
                <a:lnTo>
                  <a:pt x="3882" y="159"/>
                </a:lnTo>
                <a:lnTo>
                  <a:pt x="3880" y="146"/>
                </a:lnTo>
                <a:lnTo>
                  <a:pt x="3874" y="134"/>
                </a:lnTo>
                <a:lnTo>
                  <a:pt x="3866" y="121"/>
                </a:lnTo>
                <a:lnTo>
                  <a:pt x="3856" y="110"/>
                </a:lnTo>
                <a:lnTo>
                  <a:pt x="3842" y="100"/>
                </a:lnTo>
                <a:lnTo>
                  <a:pt x="3828" y="91"/>
                </a:lnTo>
                <a:lnTo>
                  <a:pt x="3811" y="81"/>
                </a:lnTo>
                <a:lnTo>
                  <a:pt x="3793" y="73"/>
                </a:lnTo>
                <a:lnTo>
                  <a:pt x="3793" y="73"/>
                </a:lnTo>
                <a:lnTo>
                  <a:pt x="3799" y="65"/>
                </a:lnTo>
                <a:lnTo>
                  <a:pt x="3807" y="57"/>
                </a:lnTo>
                <a:lnTo>
                  <a:pt x="3818" y="49"/>
                </a:lnTo>
                <a:lnTo>
                  <a:pt x="3829" y="44"/>
                </a:lnTo>
                <a:lnTo>
                  <a:pt x="3841" y="39"/>
                </a:lnTo>
                <a:lnTo>
                  <a:pt x="3855" y="36"/>
                </a:lnTo>
                <a:lnTo>
                  <a:pt x="3869" y="32"/>
                </a:lnTo>
                <a:lnTo>
                  <a:pt x="3883" y="32"/>
                </a:lnTo>
                <a:lnTo>
                  <a:pt x="3883" y="32"/>
                </a:lnTo>
                <a:lnTo>
                  <a:pt x="3901" y="32"/>
                </a:lnTo>
                <a:lnTo>
                  <a:pt x="3916" y="36"/>
                </a:lnTo>
                <a:lnTo>
                  <a:pt x="3931" y="40"/>
                </a:lnTo>
                <a:lnTo>
                  <a:pt x="3945" y="47"/>
                </a:lnTo>
                <a:lnTo>
                  <a:pt x="3956" y="55"/>
                </a:lnTo>
                <a:lnTo>
                  <a:pt x="3965" y="63"/>
                </a:lnTo>
                <a:lnTo>
                  <a:pt x="3973" y="71"/>
                </a:lnTo>
                <a:lnTo>
                  <a:pt x="3978" y="81"/>
                </a:lnTo>
                <a:lnTo>
                  <a:pt x="3978" y="81"/>
                </a:lnTo>
                <a:lnTo>
                  <a:pt x="3984" y="73"/>
                </a:lnTo>
                <a:lnTo>
                  <a:pt x="3990" y="66"/>
                </a:lnTo>
                <a:lnTo>
                  <a:pt x="3998" y="58"/>
                </a:lnTo>
                <a:lnTo>
                  <a:pt x="4006" y="52"/>
                </a:lnTo>
                <a:lnTo>
                  <a:pt x="4014" y="45"/>
                </a:lnTo>
                <a:lnTo>
                  <a:pt x="4024" y="39"/>
                </a:lnTo>
                <a:lnTo>
                  <a:pt x="4033" y="34"/>
                </a:lnTo>
                <a:lnTo>
                  <a:pt x="4043" y="27"/>
                </a:lnTo>
                <a:lnTo>
                  <a:pt x="4052" y="24"/>
                </a:lnTo>
                <a:lnTo>
                  <a:pt x="4062" y="19"/>
                </a:lnTo>
                <a:lnTo>
                  <a:pt x="4073" y="16"/>
                </a:lnTo>
                <a:lnTo>
                  <a:pt x="4082" y="15"/>
                </a:lnTo>
                <a:lnTo>
                  <a:pt x="4093" y="13"/>
                </a:lnTo>
                <a:lnTo>
                  <a:pt x="4104" y="11"/>
                </a:lnTo>
                <a:lnTo>
                  <a:pt x="4114" y="11"/>
                </a:lnTo>
                <a:lnTo>
                  <a:pt x="4125" y="13"/>
                </a:lnTo>
                <a:lnTo>
                  <a:pt x="4125" y="13"/>
                </a:lnTo>
                <a:lnTo>
                  <a:pt x="4134" y="15"/>
                </a:lnTo>
                <a:lnTo>
                  <a:pt x="4144" y="15"/>
                </a:lnTo>
                <a:lnTo>
                  <a:pt x="4153" y="16"/>
                </a:lnTo>
                <a:lnTo>
                  <a:pt x="4163" y="19"/>
                </a:lnTo>
                <a:lnTo>
                  <a:pt x="4172" y="21"/>
                </a:lnTo>
                <a:lnTo>
                  <a:pt x="4183" y="23"/>
                </a:lnTo>
                <a:lnTo>
                  <a:pt x="4191" y="26"/>
                </a:lnTo>
                <a:lnTo>
                  <a:pt x="4200" y="27"/>
                </a:lnTo>
                <a:lnTo>
                  <a:pt x="4200" y="27"/>
                </a:lnTo>
                <a:lnTo>
                  <a:pt x="4202" y="29"/>
                </a:lnTo>
                <a:lnTo>
                  <a:pt x="4207" y="31"/>
                </a:lnTo>
                <a:lnTo>
                  <a:pt x="4216" y="34"/>
                </a:lnTo>
                <a:lnTo>
                  <a:pt x="4227" y="39"/>
                </a:lnTo>
                <a:lnTo>
                  <a:pt x="4241" y="45"/>
                </a:lnTo>
                <a:lnTo>
                  <a:pt x="4259" y="52"/>
                </a:lnTo>
                <a:lnTo>
                  <a:pt x="4278" y="60"/>
                </a:lnTo>
                <a:lnTo>
                  <a:pt x="4300" y="70"/>
                </a:lnTo>
                <a:lnTo>
                  <a:pt x="4324" y="79"/>
                </a:lnTo>
                <a:lnTo>
                  <a:pt x="4349" y="89"/>
                </a:lnTo>
                <a:lnTo>
                  <a:pt x="4377" y="100"/>
                </a:lnTo>
                <a:lnTo>
                  <a:pt x="4406" y="112"/>
                </a:lnTo>
                <a:lnTo>
                  <a:pt x="4437" y="123"/>
                </a:lnTo>
                <a:lnTo>
                  <a:pt x="4469" y="136"/>
                </a:lnTo>
                <a:lnTo>
                  <a:pt x="4500" y="149"/>
                </a:lnTo>
                <a:lnTo>
                  <a:pt x="4533" y="160"/>
                </a:lnTo>
                <a:lnTo>
                  <a:pt x="4568" y="173"/>
                </a:lnTo>
                <a:lnTo>
                  <a:pt x="4601" y="186"/>
                </a:lnTo>
                <a:lnTo>
                  <a:pt x="4636" y="197"/>
                </a:lnTo>
                <a:lnTo>
                  <a:pt x="4671" y="210"/>
                </a:lnTo>
                <a:lnTo>
                  <a:pt x="4706" y="222"/>
                </a:lnTo>
                <a:lnTo>
                  <a:pt x="4740" y="233"/>
                </a:lnTo>
                <a:lnTo>
                  <a:pt x="4773" y="243"/>
                </a:lnTo>
                <a:lnTo>
                  <a:pt x="4807" y="252"/>
                </a:lnTo>
                <a:lnTo>
                  <a:pt x="4838" y="262"/>
                </a:lnTo>
                <a:lnTo>
                  <a:pt x="4870" y="270"/>
                </a:lnTo>
                <a:lnTo>
                  <a:pt x="4900" y="277"/>
                </a:lnTo>
                <a:lnTo>
                  <a:pt x="4928" y="283"/>
                </a:lnTo>
                <a:lnTo>
                  <a:pt x="4955" y="288"/>
                </a:lnTo>
                <a:lnTo>
                  <a:pt x="4980" y="291"/>
                </a:lnTo>
                <a:lnTo>
                  <a:pt x="5004" y="294"/>
                </a:lnTo>
                <a:lnTo>
                  <a:pt x="5024" y="294"/>
                </a:lnTo>
                <a:lnTo>
                  <a:pt x="5024" y="294"/>
                </a:lnTo>
                <a:lnTo>
                  <a:pt x="5045" y="294"/>
                </a:lnTo>
                <a:lnTo>
                  <a:pt x="5065" y="293"/>
                </a:lnTo>
                <a:lnTo>
                  <a:pt x="5084" y="290"/>
                </a:lnTo>
                <a:lnTo>
                  <a:pt x="5102" y="286"/>
                </a:lnTo>
                <a:lnTo>
                  <a:pt x="5119" y="281"/>
                </a:lnTo>
                <a:lnTo>
                  <a:pt x="5136" y="275"/>
                </a:lnTo>
                <a:lnTo>
                  <a:pt x="5151" y="268"/>
                </a:lnTo>
                <a:lnTo>
                  <a:pt x="5165" y="260"/>
                </a:lnTo>
                <a:lnTo>
                  <a:pt x="5178" y="252"/>
                </a:lnTo>
                <a:lnTo>
                  <a:pt x="5190" y="243"/>
                </a:lnTo>
                <a:lnTo>
                  <a:pt x="5200" y="233"/>
                </a:lnTo>
                <a:lnTo>
                  <a:pt x="5208" y="223"/>
                </a:lnTo>
                <a:lnTo>
                  <a:pt x="5214" y="212"/>
                </a:lnTo>
                <a:lnTo>
                  <a:pt x="5219" y="201"/>
                </a:lnTo>
                <a:lnTo>
                  <a:pt x="5222" y="189"/>
                </a:lnTo>
                <a:lnTo>
                  <a:pt x="5223" y="176"/>
                </a:lnTo>
                <a:lnTo>
                  <a:pt x="5223" y="176"/>
                </a:lnTo>
                <a:lnTo>
                  <a:pt x="5222" y="165"/>
                </a:lnTo>
                <a:lnTo>
                  <a:pt x="5219" y="154"/>
                </a:lnTo>
                <a:lnTo>
                  <a:pt x="5214" y="142"/>
                </a:lnTo>
                <a:lnTo>
                  <a:pt x="5208" y="131"/>
                </a:lnTo>
                <a:lnTo>
                  <a:pt x="5198" y="121"/>
                </a:lnTo>
                <a:lnTo>
                  <a:pt x="5189" y="112"/>
                </a:lnTo>
                <a:lnTo>
                  <a:pt x="5178" y="104"/>
                </a:lnTo>
                <a:lnTo>
                  <a:pt x="5165" y="97"/>
                </a:lnTo>
                <a:lnTo>
                  <a:pt x="5165" y="97"/>
                </a:lnTo>
                <a:lnTo>
                  <a:pt x="5178" y="92"/>
                </a:lnTo>
                <a:lnTo>
                  <a:pt x="5190" y="87"/>
                </a:lnTo>
                <a:lnTo>
                  <a:pt x="5204" y="84"/>
                </a:lnTo>
                <a:lnTo>
                  <a:pt x="5219" y="79"/>
                </a:lnTo>
                <a:lnTo>
                  <a:pt x="5233" y="76"/>
                </a:lnTo>
                <a:lnTo>
                  <a:pt x="5247" y="74"/>
                </a:lnTo>
                <a:lnTo>
                  <a:pt x="5263" y="73"/>
                </a:lnTo>
                <a:lnTo>
                  <a:pt x="5277" y="71"/>
                </a:lnTo>
                <a:lnTo>
                  <a:pt x="5277" y="71"/>
                </a:lnTo>
                <a:lnTo>
                  <a:pt x="5288" y="71"/>
                </a:lnTo>
                <a:lnTo>
                  <a:pt x="5297" y="71"/>
                </a:lnTo>
                <a:lnTo>
                  <a:pt x="5307" y="73"/>
                </a:lnTo>
                <a:lnTo>
                  <a:pt x="5316" y="74"/>
                </a:lnTo>
                <a:lnTo>
                  <a:pt x="5326" y="76"/>
                </a:lnTo>
                <a:lnTo>
                  <a:pt x="5335" y="78"/>
                </a:lnTo>
                <a:lnTo>
                  <a:pt x="5345" y="79"/>
                </a:lnTo>
                <a:lnTo>
                  <a:pt x="5354" y="82"/>
                </a:lnTo>
                <a:lnTo>
                  <a:pt x="5364" y="86"/>
                </a:lnTo>
                <a:lnTo>
                  <a:pt x="5372" y="89"/>
                </a:lnTo>
                <a:lnTo>
                  <a:pt x="5380" y="92"/>
                </a:lnTo>
                <a:lnTo>
                  <a:pt x="5387" y="97"/>
                </a:lnTo>
                <a:lnTo>
                  <a:pt x="5395" y="100"/>
                </a:lnTo>
                <a:lnTo>
                  <a:pt x="5403" y="105"/>
                </a:lnTo>
                <a:lnTo>
                  <a:pt x="5410" y="110"/>
                </a:lnTo>
                <a:lnTo>
                  <a:pt x="5416" y="115"/>
                </a:lnTo>
                <a:lnTo>
                  <a:pt x="5416" y="115"/>
                </a:lnTo>
                <a:lnTo>
                  <a:pt x="5414" y="121"/>
                </a:lnTo>
                <a:lnTo>
                  <a:pt x="5413" y="126"/>
                </a:lnTo>
                <a:lnTo>
                  <a:pt x="5411" y="131"/>
                </a:lnTo>
                <a:lnTo>
                  <a:pt x="5411" y="136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22400" y="411120"/>
            <a:ext cx="8893080" cy="6024600"/>
          </a:xfrm>
          <a:prstGeom prst="rect">
            <a:avLst/>
          </a:prstGeom>
          <a:noFill/>
          <a:ln w="0">
            <a:solidFill>
              <a:srgbClr val="9900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2340000" y="907920"/>
            <a:ext cx="251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邹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268360" y="1700280"/>
            <a:ext cx="125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2268360" y="2492280"/>
            <a:ext cx="107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1979640" y="3500280"/>
            <a:ext cx="179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6056280" y="1628640"/>
            <a:ext cx="308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宫妇左右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6084720" y="2492280"/>
            <a:ext cx="272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朝廷之臣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6084720" y="3429000"/>
            <a:ext cx="28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四境之内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5940360" y="83664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齐王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4140360" y="24940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4211640" y="162864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3995640" y="35002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有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22"/>
          <p:cNvSpPr/>
          <p:nvPr/>
        </p:nvSpPr>
        <p:spPr>
          <a:xfrm flipV="1">
            <a:off x="2987640" y="2060640"/>
            <a:ext cx="1152720" cy="17280"/>
          </a:xfrm>
          <a:prstGeom prst="line">
            <a:avLst/>
          </a:prstGeom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3"/>
          <p:cNvSpPr/>
          <p:nvPr/>
        </p:nvSpPr>
        <p:spPr>
          <a:xfrm flipH="1">
            <a:off x="5003280" y="2060640"/>
            <a:ext cx="1150920" cy="0"/>
          </a:xfrm>
          <a:prstGeom prst="line">
            <a:avLst/>
          </a:prstGeom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4"/>
          <p:cNvSpPr/>
          <p:nvPr/>
        </p:nvSpPr>
        <p:spPr>
          <a:xfrm>
            <a:off x="2987640" y="2852640"/>
            <a:ext cx="1152720" cy="0"/>
          </a:xfrm>
          <a:prstGeom prst="line">
            <a:avLst/>
          </a:prstGeom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25"/>
          <p:cNvSpPr/>
          <p:nvPr/>
        </p:nvSpPr>
        <p:spPr>
          <a:xfrm flipH="1">
            <a:off x="5003280" y="2852640"/>
            <a:ext cx="1150920" cy="0"/>
          </a:xfrm>
          <a:prstGeom prst="line">
            <a:avLst/>
          </a:prstGeom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26"/>
          <p:cNvSpPr/>
          <p:nvPr/>
        </p:nvSpPr>
        <p:spPr>
          <a:xfrm>
            <a:off x="2987640" y="3933720"/>
            <a:ext cx="1079640" cy="0"/>
          </a:xfrm>
          <a:prstGeom prst="line">
            <a:avLst/>
          </a:prstGeom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7"/>
          <p:cNvSpPr/>
          <p:nvPr/>
        </p:nvSpPr>
        <p:spPr>
          <a:xfrm flipH="1">
            <a:off x="5076360" y="3860640"/>
            <a:ext cx="1079640" cy="0"/>
          </a:xfrm>
          <a:prstGeom prst="line">
            <a:avLst/>
          </a:prstGeom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8"/>
          <p:cNvSpPr/>
          <p:nvPr/>
        </p:nvSpPr>
        <p:spPr>
          <a:xfrm>
            <a:off x="1908000" y="4365720"/>
            <a:ext cx="319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受蒙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9"/>
          <p:cNvSpPr/>
          <p:nvPr/>
        </p:nvSpPr>
        <p:spPr>
          <a:xfrm>
            <a:off x="6156360" y="429264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受蒙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3"/>
          <p:cNvSpPr/>
          <p:nvPr/>
        </p:nvSpPr>
        <p:spPr>
          <a:xfrm>
            <a:off x="4059720" y="4221000"/>
            <a:ext cx="164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类比推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委婉劝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WordArt 34" descr=""/>
          <p:cNvPicPr/>
          <p:nvPr/>
        </p:nvPicPr>
        <p:blipFill>
          <a:blip r:embed="rId1"/>
          <a:stretch/>
        </p:blipFill>
        <p:spPr>
          <a:xfrm>
            <a:off x="390600" y="760320"/>
            <a:ext cx="1305000" cy="4637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projctor.wav"/>
      </p:stSnd>
    </p:sndAc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4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-252720" y="1773360"/>
            <a:ext cx="878508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楷体"/>
                <a:ea typeface="楷体"/>
              </a:rPr>
              <a:t>赏析文章美点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73120" y="330120"/>
            <a:ext cx="71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再读课文，鉴赏品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80880" y="97956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"/>
                <a:ea typeface="楷体"/>
              </a:rPr>
              <a:t>本文篇幅短小，妙趣横生，采用了一种奇特的三叠排比的结构样式，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找出本文的“三”</a:t>
            </a:r>
            <a:r>
              <a:rPr b="0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228600" y="54864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  <a:ea typeface="楷体"/>
              </a:rPr>
              <a:t>前后呼应，上下关照，层层推进，句      式整散错落有致，读来琅琅上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8"/>
          <p:cNvGrpSpPr/>
          <p:nvPr/>
        </p:nvGrpSpPr>
        <p:grpSpPr>
          <a:xfrm>
            <a:off x="1371600" y="2092320"/>
            <a:ext cx="7010280" cy="3165480"/>
            <a:chOff x="1371600" y="2092320"/>
            <a:chExt cx="7010280" cy="3165480"/>
          </a:xfrm>
        </p:grpSpPr>
        <p:sp>
          <p:nvSpPr>
            <p:cNvPr id="147" name="Rectangle 6"/>
            <p:cNvSpPr/>
            <p:nvPr/>
          </p:nvSpPr>
          <p:spPr>
            <a:xfrm>
              <a:off x="1676520" y="2092320"/>
              <a:ext cx="670536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邹忌三问；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妻、妾、客的三答；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邹忌解蔽的三思；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入朝见威王的三比；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齐威王鼓励纳谏的三赏（令）；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纳赏后齐国的三变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AutoShape 7"/>
            <p:cNvSpPr/>
            <p:nvPr/>
          </p:nvSpPr>
          <p:spPr>
            <a:xfrm>
              <a:off x="1371600" y="2362320"/>
              <a:ext cx="228600" cy="28954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75240 h 2895480"/>
                <a:gd name="textAreaBottom" fmla="*/ 282024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  <p:sndAc>
      <p:stSnd>
        <p:snd r:embed="rId2" name="projctor.wav"/>
      </p:stSnd>
    </p:sndAc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）邹忌有三问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问其妻：“我孰与成北徐公美？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问其妾：“吾孰与徐公美？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问其客：“吾与徐公孰美？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）其妻、妾、客先后有三答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     “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君美甚，徐公何能及君也！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     “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徐公何能及君也！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     “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徐公不若君之美也。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）邹忌解蔽，当晚有三思 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      “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吾妻之美我者，私我也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妾之美，畏我也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客之美我者，欲有求于我也。”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369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邹忌入朝见威王，有三比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04920" y="174132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臣之妻私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28600" y="2655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臣之妾畏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52280" y="3600360"/>
            <a:ext cx="472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臣之客欲有求于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5257800" y="166536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宫妇左右莫不私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5257800" y="26557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朝廷之臣莫不畏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4952880" y="350532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四境之内莫不有求于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1143000" y="5475240"/>
            <a:ext cx="72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结论：由此观之，王之蔽甚矣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0"/>
          <p:cNvSpPr/>
          <p:nvPr/>
        </p:nvSpPr>
        <p:spPr>
          <a:xfrm>
            <a:off x="2590920" y="1969920"/>
            <a:ext cx="2286000" cy="76320"/>
          </a:xfrm>
          <a:prstGeom prst="rightArrow">
            <a:avLst>
              <a:gd name="adj1" fmla="val 50000"/>
              <a:gd name="adj2" fmla="val 7488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2590920" y="2960640"/>
            <a:ext cx="2438280" cy="152280"/>
          </a:xfrm>
          <a:prstGeom prst="rightArrow">
            <a:avLst>
              <a:gd name="adj1" fmla="val 50000"/>
              <a:gd name="adj2" fmla="val 4002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12"/>
          <p:cNvSpPr/>
          <p:nvPr/>
        </p:nvSpPr>
        <p:spPr>
          <a:xfrm>
            <a:off x="3581280" y="3722760"/>
            <a:ext cx="1219320" cy="228600"/>
          </a:xfrm>
          <a:prstGeom prst="rightArrow">
            <a:avLst>
              <a:gd name="adj1" fmla="val 50000"/>
              <a:gd name="adj2" fmla="val 1332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3200400" y="4332240"/>
            <a:ext cx="609480" cy="990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4"/>
          <p:cNvSpPr/>
          <p:nvPr/>
        </p:nvSpPr>
        <p:spPr>
          <a:xfrm flipH="1">
            <a:off x="4495680" y="4255920"/>
            <a:ext cx="609840" cy="10670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8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4000"/>
                            </p:stCondLst>
                            <p:childTnLst>
                              <p:par>
                                <p:cTn id="595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920" y="117000"/>
            <a:ext cx="84247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唐太宗李世民对敢于直谏的魏征的一句评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以铜为镜，可以正衣冠；以史为镜，可以知兴亡；以人为镜，可以明得失。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历代君主要成就一番霸业，身边没有几位敢进谏言的大臣是不成的；而劝谏能否奏效，一要看做君王的是否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贤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二要看谏者是否注意了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进谏的艺术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“良药”既“爽于口”，又“利于病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11280" y="4365720"/>
            <a:ext cx="43196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战国时齐威王非常幸运遇到了这样一位贤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——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邹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对话"/>
          <p:cNvPicPr/>
          <p:nvPr/>
        </p:nvPicPr>
        <p:blipFill>
          <a:blip r:embed="rId1"/>
          <a:stretch/>
        </p:blipFill>
        <p:spPr>
          <a:xfrm>
            <a:off x="5292720" y="4149720"/>
            <a:ext cx="382572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523880" y="533520"/>
            <a:ext cx="617220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齐王纳谏，下令有三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面刺        上赏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书谏         中赏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谤讥         下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219320" y="3657600"/>
            <a:ext cx="754380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纳谏之后，齐国有三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初           门庭 若市；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数月        间进；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期年       无可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609480" y="325440"/>
            <a:ext cx="82296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也许是无意为之的巧合，作者把整个故事组成了“三叠排比”的奇特结构，叙事如江水东下，十分畅达，并且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前后呼应，上下关照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，使文章具有一线贯穿、晓畅淋漓的特点。这样的结构，不仅使文章从全文来看有一种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整齐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的美，而且使其内在韵律有一种进行曲般的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节奏美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这样写，看来有些过于理想化，但仔细斟酌，却又完全合乎事理，合乎发展规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11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028000" cy="42735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1080" y="981000"/>
            <a:ext cx="716292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邹忌讽</a:t>
            </a:r>
            <a:br>
              <a:rPr sz="6600"/>
            </a:b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齐王纳谏</a:t>
            </a:r>
            <a:br>
              <a:rPr sz="6600"/>
            </a:b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战国策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5902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e6b70"/>
                </a:solidFill>
                <a:latin typeface="楷体"/>
                <a:ea typeface="楷体"/>
              </a:rPr>
              <a:t>出处：</a:t>
            </a:r>
            <a:r>
              <a:rPr b="1" lang="en-US" sz="4800" spc="-1" strike="noStrike">
                <a:solidFill>
                  <a:srgbClr val="990000"/>
                </a:solidFill>
                <a:latin typeface="楷体"/>
                <a:ea typeface="楷体"/>
              </a:rPr>
              <a:t>《</a:t>
            </a:r>
            <a:r>
              <a:rPr b="1" lang="zh-CN" sz="4800" spc="-1" strike="noStrike">
                <a:solidFill>
                  <a:srgbClr val="990000"/>
                </a:solidFill>
                <a:latin typeface="楷体"/>
                <a:ea typeface="楷体"/>
              </a:rPr>
              <a:t>战国策</a:t>
            </a:r>
            <a:r>
              <a:rPr b="1" lang="en-US" sz="4800" spc="-1" strike="noStrike">
                <a:solidFill>
                  <a:srgbClr val="990000"/>
                </a:solidFill>
                <a:latin typeface="楷体"/>
                <a:ea typeface="楷体"/>
              </a:rPr>
              <a:t>》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楷体"/>
                <a:ea typeface="楷体"/>
              </a:rPr>
              <a:t>《</a:t>
            </a:r>
            <a:r>
              <a:rPr b="1" lang="zh-CN" sz="4000" spc="-1" strike="noStrike">
                <a:solidFill>
                  <a:srgbClr val="333399"/>
                </a:solidFill>
                <a:latin typeface="楷体"/>
                <a:ea typeface="楷体"/>
              </a:rPr>
              <a:t>战国策</a:t>
            </a:r>
            <a:r>
              <a:rPr b="1" lang="en-US" sz="4000" spc="-1" strike="noStrike">
                <a:solidFill>
                  <a:srgbClr val="333399"/>
                </a:solidFill>
                <a:latin typeface="楷体"/>
                <a:ea typeface="楷体"/>
              </a:rPr>
              <a:t>》</a:t>
            </a:r>
            <a:r>
              <a:rPr b="1" lang="zh-CN" sz="4000" spc="-1" strike="noStrike">
                <a:solidFill>
                  <a:srgbClr val="333399"/>
                </a:solidFill>
                <a:latin typeface="楷体"/>
                <a:ea typeface="楷体"/>
              </a:rPr>
              <a:t>又叫</a:t>
            </a:r>
            <a:r>
              <a:rPr b="1" lang="en-US" sz="4000" spc="-1" strike="noStrike">
                <a:solidFill>
                  <a:srgbClr val="333399"/>
                </a:solidFill>
                <a:latin typeface="楷体"/>
                <a:ea typeface="楷体"/>
              </a:rPr>
              <a:t>《</a:t>
            </a:r>
            <a:r>
              <a:rPr b="1" lang="zh-CN" sz="4000" spc="-1" strike="noStrike">
                <a:solidFill>
                  <a:srgbClr val="333399"/>
                </a:solidFill>
                <a:latin typeface="楷体"/>
                <a:ea typeface="楷体"/>
              </a:rPr>
              <a:t>国策</a:t>
            </a:r>
            <a:r>
              <a:rPr b="1" lang="en-US" sz="4000" spc="-1" strike="noStrike">
                <a:solidFill>
                  <a:srgbClr val="333399"/>
                </a:solidFill>
                <a:latin typeface="楷体"/>
                <a:ea typeface="楷体"/>
              </a:rPr>
              <a:t>》</a:t>
            </a:r>
            <a:r>
              <a:rPr b="1" lang="zh-CN" sz="4000" spc="-1" strike="noStrike">
                <a:solidFill>
                  <a:srgbClr val="333399"/>
                </a:solidFill>
                <a:latin typeface="楷体"/>
                <a:ea typeface="楷体"/>
              </a:rPr>
              <a:t>， 是记载战国历史的</a:t>
            </a:r>
            <a:r>
              <a:rPr b="1" lang="zh-CN" sz="4000" spc="-1" strike="noStrike">
                <a:solidFill>
                  <a:srgbClr val="ff6600"/>
                </a:solidFill>
                <a:latin typeface="楷体"/>
                <a:ea typeface="楷体"/>
              </a:rPr>
              <a:t>国别体</a:t>
            </a:r>
            <a:r>
              <a:rPr b="1" lang="zh-CN" sz="4000" spc="-1" strike="noStrike">
                <a:solidFill>
                  <a:srgbClr val="333399"/>
                </a:solidFill>
                <a:latin typeface="楷体"/>
                <a:ea typeface="楷体"/>
              </a:rPr>
              <a:t>史书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"/>
                <a:ea typeface="楷体"/>
              </a:rPr>
              <a:t>西汉末年，</a:t>
            </a:r>
            <a:r>
              <a:rPr b="1" lang="zh-CN" sz="4000" spc="-1" strike="noStrike">
                <a:solidFill>
                  <a:srgbClr val="ff6600"/>
                </a:solidFill>
                <a:latin typeface="楷体"/>
                <a:ea typeface="楷体"/>
              </a:rPr>
              <a:t>刘向</a:t>
            </a:r>
            <a:r>
              <a:rPr b="1" lang="zh-CN" sz="4000" spc="-1" strike="noStrike">
                <a:solidFill>
                  <a:srgbClr val="333399"/>
                </a:solidFill>
                <a:latin typeface="楷体"/>
                <a:ea typeface="楷体"/>
              </a:rPr>
              <a:t>根据战国时事的记录整理而成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1920" y="480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e6b70"/>
                </a:solidFill>
                <a:latin typeface="楷体"/>
                <a:ea typeface="楷体"/>
              </a:rPr>
              <a:t>关于</a:t>
            </a:r>
            <a:r>
              <a:rPr b="1" lang="en-US" sz="4400" spc="-1" strike="noStrike">
                <a:solidFill>
                  <a:srgbClr val="2e6b70"/>
                </a:solidFill>
                <a:latin typeface="楷体"/>
                <a:ea typeface="楷体"/>
              </a:rPr>
              <a:t>《</a:t>
            </a:r>
            <a:r>
              <a:rPr b="1" lang="zh-CN" sz="4400" spc="-1" strike="noStrike">
                <a:solidFill>
                  <a:srgbClr val="2e6b70"/>
                </a:solidFill>
                <a:latin typeface="楷体"/>
                <a:ea typeface="楷体"/>
              </a:rPr>
              <a:t>战国策</a:t>
            </a:r>
            <a:r>
              <a:rPr b="1" lang="en-US" sz="4400" spc="-1" strike="noStrike">
                <a:solidFill>
                  <a:srgbClr val="2e6b70"/>
                </a:solidFill>
                <a:latin typeface="楷体"/>
                <a:ea typeface="楷体"/>
              </a:rPr>
              <a:t>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67616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战国策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分为东周、西周、秦、齐、楚、赵、魏、韩、燕、宋、卫、中山等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国国策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记载公元前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453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前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209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年共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245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年史实。是研究战国时期历史的重要资料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楷体"/>
                <a:ea typeface="楷体"/>
              </a:rPr>
              <a:t>“</a:t>
            </a:r>
            <a:r>
              <a:rPr b="1" lang="zh-CN" sz="3600" spc="-1" strike="noStrike">
                <a:solidFill>
                  <a:srgbClr val="ff6600"/>
                </a:solidFill>
                <a:latin typeface="楷体"/>
                <a:ea typeface="楷体"/>
              </a:rPr>
              <a:t>战国”一词，即源于此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57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e6b70"/>
                </a:solidFill>
                <a:latin typeface="楷体"/>
                <a:ea typeface="楷体"/>
              </a:rPr>
              <a:t>关于刘向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1523880"/>
            <a:ext cx="813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刘向（约前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77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前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年）本名更生，字子政，沛（今江苏沛县）人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西汉经学家、目录学家、文学家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刘向一生著述颇丰，对保存我国古籍文献做出过重要贡献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他留下了多少部历史、文学名著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"/>
                <a:ea typeface="楷体"/>
              </a:rPr>
              <a:t>《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战国策</a:t>
            </a:r>
            <a:r>
              <a:rPr b="1" lang="en-US" sz="3600" spc="-1" strike="noStrike">
                <a:solidFill>
                  <a:srgbClr val="0033cc"/>
                </a:solidFill>
                <a:latin typeface="楷体"/>
                <a:ea typeface="楷体"/>
              </a:rPr>
              <a:t>》《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说苑</a:t>
            </a:r>
            <a:r>
              <a:rPr b="1" lang="en-US" sz="3600" spc="-1" strike="noStrike">
                <a:solidFill>
                  <a:srgbClr val="0033cc"/>
                </a:solidFill>
                <a:latin typeface="楷体"/>
                <a:ea typeface="楷体"/>
              </a:rPr>
              <a:t>》《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列女传</a:t>
            </a:r>
            <a:r>
              <a:rPr b="1" lang="en-US" sz="3600" spc="-1" strike="noStrike">
                <a:solidFill>
                  <a:srgbClr val="0033cc"/>
                </a:solidFill>
                <a:latin typeface="楷体"/>
                <a:ea typeface="楷体"/>
              </a:rPr>
              <a:t>》…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val 12"/>
          <p:cNvSpPr/>
          <p:nvPr/>
        </p:nvSpPr>
        <p:spPr>
          <a:xfrm>
            <a:off x="4140360" y="1052640"/>
            <a:ext cx="718920" cy="1008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13"/>
          <p:cNvSpPr/>
          <p:nvPr/>
        </p:nvSpPr>
        <p:spPr>
          <a:xfrm>
            <a:off x="5869080" y="1052640"/>
            <a:ext cx="718920" cy="1008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2195640" y="1125360"/>
            <a:ext cx="72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邹忌讽    纳谏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4746600" y="1255680"/>
            <a:ext cx="16257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齐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786960" y="2133720"/>
            <a:ext cx="68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解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题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2124000" y="328464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讽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讽谏，用暗示、比喻之类的方法，委婉地规劝。 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用含蓄的话劝说或指责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1979640" y="537372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纳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接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2176560" y="2570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886320" y="4046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解题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176560" y="2859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2366280" y="2492280"/>
            <a:ext cx="456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邹 忌 讽 齐 王 纳 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7"/>
          <p:cNvSpPr/>
          <p:nvPr/>
        </p:nvSpPr>
        <p:spPr>
          <a:xfrm>
            <a:off x="1332000" y="3500280"/>
            <a:ext cx="4608360" cy="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9"/>
          <p:cNvSpPr/>
          <p:nvPr/>
        </p:nvSpPr>
        <p:spPr>
          <a:xfrm>
            <a:off x="4425840" y="3716280"/>
            <a:ext cx="3457800" cy="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4211640" y="2421000"/>
            <a:ext cx="1800360" cy="1081080"/>
          </a:xfrm>
          <a:prstGeom prst="wedgeRectCallout">
            <a:avLst>
              <a:gd name="adj1" fmla="val -23282"/>
              <a:gd name="adj2" fmla="val 49263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1"/>
          <p:cNvSpPr/>
          <p:nvPr/>
        </p:nvSpPr>
        <p:spPr>
          <a:xfrm>
            <a:off x="4932360" y="3500280"/>
            <a:ext cx="360360" cy="1081080"/>
          </a:xfrm>
          <a:prstGeom prst="downArrow">
            <a:avLst>
              <a:gd name="adj1" fmla="val 50000"/>
              <a:gd name="adj2" fmla="val 74972"/>
            </a:avLst>
          </a:prstGeom>
          <a:solidFill>
            <a:srgbClr val="bbe0e3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1698120" y="4365720"/>
            <a:ext cx="243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邹 忌 讽 齐 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6111360" y="4365720"/>
            <a:ext cx="195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齐 王 纳 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4"/>
          <p:cNvSpPr/>
          <p:nvPr/>
        </p:nvSpPr>
        <p:spPr>
          <a:xfrm>
            <a:off x="4932360" y="1413000"/>
            <a:ext cx="360360" cy="1008000"/>
          </a:xfrm>
          <a:prstGeom prst="upArrow">
            <a:avLst>
              <a:gd name="adj1" fmla="val 50000"/>
              <a:gd name="adj2" fmla="val 69904"/>
            </a:avLst>
          </a:prstGeom>
          <a:solidFill>
            <a:srgbClr val="bbe0e3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4652640" y="5796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兼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4286880" y="547056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</a:rPr>
              <a:t>兼语句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4T10:47:17Z</dcterms:created>
  <dc:creator/>
  <dc:description>版权所有：张国生 不经授权，不得复制</dc:description>
  <dc:language>en-US</dc:language>
  <cp:lastModifiedBy>Administrator</cp:lastModifiedBy>
  <dcterms:modified xsi:type="dcterms:W3CDTF">2017-12-12T03:36:40Z</dcterms:modified>
  <cp:revision>104</cp:revision>
  <dc:subject/>
  <dc:title>邹忌讽齐王纳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7</vt:lpwstr>
  </property>
</Properties>
</file>